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5.jpeg" ContentType="image/jpeg"/>
  <Override PartName="/ppt/media/image20.wmf" ContentType="image/x-wmf"/>
  <Override PartName="/ppt/media/image25.jpeg" ContentType="image/jpeg"/>
  <Override PartName="/ppt/media/image2.wmf" ContentType="image/x-wmf"/>
  <Override PartName="/ppt/media/image24.wmf" ContentType="image/x-wmf"/>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jpeg" ContentType="image/jpeg"/>
  <Override PartName="/ppt/media/image15.wmf" ContentType="image/x-wmf"/>
  <Override PartName="/ppt/media/image18.jpeg" ContentType="image/jpe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move the slide</a:t>
            </a:r>
            <a:endParaRPr b="1" lang="en-US" sz="4400" spc="-1" strike="noStrike">
              <a:solidFill>
                <a:srgbClr val="f6e8ee"/>
              </a:solidFill>
              <a:latin typeface="Verdan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9034FC4-D28A-42EF-9963-EB4D32289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UENTRO LÍDERES DE GRUPOS PEQUEÑOS? (RP-9)</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usca miembros que tomen en serio 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Toma en cuenta aquellas personas que desafían tu liderazgo. Quizá sean </a:t>
            </a:r>
            <a:r>
              <a:rPr b="0" lang="es-ES" sz="1200" spc="-1" strike="noStrike">
                <a:solidFill>
                  <a:srgbClr val="000000"/>
                </a:solidFill>
                <a:latin typeface="Times New Roman"/>
              </a:rPr>
              <a:t>	</a:t>
            </a:r>
            <a:r>
              <a:rPr b="0" lang="es-ES" sz="1200" spc="-1" strike="noStrike">
                <a:solidFill>
                  <a:srgbClr val="000000"/>
                </a:solidFill>
                <a:latin typeface="Times New Roman"/>
              </a:rPr>
              <a:t>líderes potenciales frustra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ca gente talentosa a quienes puedas reconocer y afirm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Ora en forma regular pidiendo la dirección divin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Busca personas que abrazan la visión de lo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Intenta buscar gente que exhibe las siguientes cualidades espirituales, </a:t>
            </a:r>
            <a:r>
              <a:rPr b="0" lang="es-ES" sz="1200" spc="-1" strike="noStrike">
                <a:solidFill>
                  <a:srgbClr val="000000"/>
                </a:solidFill>
                <a:latin typeface="Times New Roman"/>
              </a:rPr>
              <a:t>	</a:t>
            </a:r>
            <a:r>
              <a:rPr b="0" lang="es-ES" sz="1200" spc="-1" strike="noStrike">
                <a:solidFill>
                  <a:srgbClr val="000000"/>
                </a:solidFill>
                <a:latin typeface="Times New Roman"/>
              </a:rPr>
              <a:t>emoci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 a Dios trabajan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auto alimentadores? </a:t>
            </a:r>
            <a:r>
              <a:rPr b="0" lang="es-ES" sz="1200" spc="-1" strike="noStrike">
                <a:solidFill>
                  <a:srgbClr val="000000"/>
                </a:solidFill>
                <a:latin typeface="Times New Roman"/>
              </a:rPr>
              <a:t>(Dedican tiempo a nutrir su propio crecimiento espiritual a través de la lectura de la Biblia y l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n deseosos de aprender? (¿Participan activamente de las charlas 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en la visión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seen un espíritu humilde y to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mo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lo suficientemente seguras para ser vulnerables y abiertas con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estables emocionalmente? </a:t>
            </a:r>
            <a:r>
              <a:rPr b="0" lang="es-ES" sz="1200" spc="-1" strike="noStrike">
                <a:solidFill>
                  <a:srgbClr val="000000"/>
                </a:solidFill>
                <a:latin typeface="Times New Roman"/>
              </a:rPr>
              <a:t>(Son concientes de sus puntos fuertes y débiles; sin estar sujetas a variaciones de estado de ánimo que pueden afectar la dinámica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responden a la confrontación y el desarrollo del carácter? ¿En forma defensiva? ¿O positivament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 abiertamente, din ser dominantes? </a:t>
            </a:r>
            <a:r>
              <a:rPr b="0" lang="es-ES" sz="1200" spc="-1" strike="noStrike">
                <a:solidFill>
                  <a:srgbClr val="000000"/>
                </a:solidFill>
                <a:latin typeface="Times New Roman"/>
              </a:rPr>
              <a:t>(Si esto es un problema, ¿cómo respondieron al confrontar el te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escuchar a los demás de una forma que demuestra preocup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facilitar la charla gru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Una vez que termine el periodo de tu grupo piloto, habla con los líderes potenciales y anfitrionas de tu grupo para evaluar su interés en dirigir la charla o ser anfitriona de un grup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SUPERO LAS OBJECIONES DE LAS LÍDERES POTENCIAL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objeciones típicas a ser líder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Sencillamente no tengo tiempo.”</a:t>
            </a:r>
            <a:r>
              <a:rPr b="0" lang="en-US" sz="1200" spc="-1" strike="noStrike">
                <a:solidFill>
                  <a:srgbClr val="000000"/>
                </a:solidFill>
                <a:latin typeface="Times New Roman"/>
              </a:rPr>
              <a:t> </a:t>
            </a:r>
            <a:r>
              <a:rPr b="0" lang="es-ES" sz="1200" spc="-1" strike="noStrike">
                <a:solidFill>
                  <a:srgbClr val="000000"/>
                </a:solidFill>
                <a:latin typeface="Times New Roman"/>
              </a:rPr>
              <a:t>Recuerda, las personas hacen tiempo para las cosas que creen que son importantes. Comparte la importancia del liderazgo de grupos pequeños en el cuerpo de Cristo. Enfatiza los cambios de vida que pueden ocurrir si aceptan el desafío de liderar un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i="1" lang="es-ES" sz="1200" spc="-1" strike="noStrike">
                <a:solidFill>
                  <a:srgbClr val="000000"/>
                </a:solidFill>
                <a:latin typeface="Times New Roman"/>
              </a:rPr>
              <a:t>“No tengo el don de liderazgo.”</a:t>
            </a:r>
            <a:r>
              <a:rPr b="0" lang="es-ES" sz="1200" spc="-1" strike="noStrike">
                <a:solidFill>
                  <a:srgbClr val="000000"/>
                </a:solidFill>
                <a:latin typeface="Times New Roman"/>
              </a:rPr>
              <a:t> Anima a las personas recordándoles que el liderazgo mayormente es carácter. Lleva tiempo desarrollar carácter y competencia (habilidades). SI crees que alguien tiene las cualidades de carácter básicas de un líder potencial, diles que estás dispuesta a asegurarte de que reciban entrenamiento apropiado para asegurarles que serán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i="1" lang="es-ES" sz="1200" spc="-1" strike="noStrike">
                <a:solidFill>
                  <a:srgbClr val="000000"/>
                </a:solidFill>
                <a:latin typeface="Times New Roman"/>
              </a:rPr>
              <a:t>“No soy ese tipo de persona (líder).”</a:t>
            </a:r>
            <a:r>
              <a:rPr b="1" lang="es-ES" sz="1200" spc="-1" strike="noStrike">
                <a:solidFill>
                  <a:srgbClr val="000000"/>
                </a:solidFill>
                <a:latin typeface="Times New Roman"/>
              </a:rPr>
              <a:t> </a:t>
            </a:r>
            <a:r>
              <a:rPr b="0" lang="es-ES" sz="1200" spc="-1" strike="noStrike">
                <a:solidFill>
                  <a:srgbClr val="000000"/>
                </a:solidFill>
                <a:latin typeface="Times New Roman"/>
              </a:rPr>
              <a:t>En este punte simplemente debes explorar a qué se refiere la persona con “tipo de persona”. </a:t>
            </a:r>
            <a:r>
              <a:rPr b="0" lang="en-US" sz="1200" spc="-1" strike="noStrike">
                <a:solidFill>
                  <a:srgbClr val="000000"/>
                </a:solidFill>
                <a:latin typeface="Times New Roman"/>
              </a:rPr>
              <a:t>Quizá tengan una definición no bíblica de liderazgo. </a:t>
            </a:r>
            <a:r>
              <a:rPr b="0" lang="es-ES" sz="1200" spc="-1" strike="noStrike">
                <a:solidFill>
                  <a:srgbClr val="000000"/>
                </a:solidFill>
                <a:latin typeface="Times New Roman"/>
              </a:rPr>
              <a:t>Quizá vean al líder como una persona que está a cargo y en el control, en contraposición a alguien que puede facilitar el cambio de vida al cuidar, pastorear, discipular y amar a los demá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óximo paso es fijar un tiempo para entrenar tus líd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TRENAR LOS LÍDERES DE TU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Apacentad la grey de Dios que está entre vosotros, cuidando de ella, no por fuerza, sino voluntariamente; no por ganancia deshonesta, sino con ánimo pronto; no como teniendo señorío sobre los que están a vuestro cuidado, sino siendo ejemplos de la grey.” (1 Pedro 5:2-3). </a:t>
            </a:r>
            <a:r>
              <a:rPr b="1" lang="es-ES" sz="1200" spc="-1" strike="noStrike">
                <a:solidFill>
                  <a:srgbClr val="000000"/>
                </a:solidFill>
                <a:latin typeface="Times New Roman"/>
              </a:rPr>
              <a:t>(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Qué cualidades debería tener un líder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Una relación con Jesús en cre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Un sentimiento de que Dios la está llamando a liderar un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sión para nutrir a los demás en el Señor (Juan 21:15-17,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zo de relacionarse con los demás de una manera que los une en una vida de grupo (Heb. 10:24-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sentimiento de que su caminar genuino con el Señor será un ejemplo para los demás (1 Tes. 2:1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arácter y h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or (Juan 13:34-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egridad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leva frutos (Gal. 5:22-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servicial (Marcos 10:35-4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enseñar y manejar responsabilidades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mantenerse en pie con una doctrina firme (Tito 1: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ige con diligencia (Romanos 1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torea con dedicación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nadie va a poner en tela de juicio, que esta lista de pruebas y habilidades de carácter son importantes para un líder, al leer esta lista, teniéndose a uno mismo en mente, nos podría causar un poco de temor. </a:t>
            </a:r>
            <a:r>
              <a:rPr b="0" lang="en-US" sz="1200" spc="-1" strike="noStrike">
                <a:solidFill>
                  <a:srgbClr val="000000"/>
                </a:solidFill>
                <a:latin typeface="Times New Roman"/>
              </a:rPr>
              <a:t>Sería bueno asegurarle a su lider de grupo pequeño (¡Y a usted misma! </a:t>
            </a:r>
            <a:r>
              <a:rPr b="0" lang="es-ES" sz="1200" spc="-1" strike="noStrike">
                <a:solidFill>
                  <a:srgbClr val="000000"/>
                </a:solidFill>
                <a:latin typeface="Times New Roman"/>
              </a:rPr>
              <a:t>Que no se espera que se esté totalmente desarrollada en estas pruebas y habilidades cuando se llega a ser una líder de grupo; sin embargo, debiera ser su blanco desarrollarlas al ir madurando en Cristo.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3) </a:t>
            </a:r>
            <a:r>
              <a:rPr b="1" i="1" lang="es-ES" sz="1200" spc="-1" strike="noStrike">
                <a:solidFill>
                  <a:srgbClr val="000000"/>
                </a:solidFill>
                <a:latin typeface="Times New Roman"/>
              </a:rPr>
              <a:t>B. ¿Cuáles son las responsabilidades básicas de una líder de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Encontrar una anfitriona para su grupo pequeño (un lugar para reunirse y una persona que se responsabilice por el lugar de e reuniones.) Trabaje con su anfitriona para planificar el horario de reuniones y otros detalles importantes como algo para servir, alguien que cuide los niños si es necesario. Recuerde de mantener al día el horario de reuniones regularmente con su  anfitri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onduzca reuniones de grupo donde se compartan las alegrías y pesares de cada una. Como líder del grupo pequeño,  sus responsabilidades incluyen: reunir el grupo y manejar el tiempo de tal manera que facilite que cada una se abra, que haya comprensión y aplicación de la Palabra, e interés y apoyo mutu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i="1" lang="en-US" sz="1200" spc="-1" strike="noStrike">
                <a:solidFill>
                  <a:srgbClr val="000000"/>
                </a:solidFill>
                <a:latin typeface="Times New Roman"/>
              </a:rPr>
              <a:t> </a:t>
            </a:r>
            <a:r>
              <a:rPr b="0" lang="en-US" sz="1200" spc="-1" strike="noStrike">
                <a:solidFill>
                  <a:srgbClr val="000000"/>
                </a:solidFill>
                <a:latin typeface="Times New Roman"/>
              </a:rPr>
              <a:t>Prepárese para su grupo pequeño. </a:t>
            </a:r>
            <a:r>
              <a:rPr b="0" lang="es-ES" sz="1200" spc="-1" strike="noStrike">
                <a:solidFill>
                  <a:srgbClr val="000000"/>
                </a:solidFill>
                <a:latin typeface="Times New Roman"/>
              </a:rPr>
              <a:t>Identifique quienes estarán en su grupo y desafíelas a hacer un compromiso por un período de tiempo. Un grupo puede crecer hasta llegar a ser ocho o doce personas y todavía disfrutar de la experiencia de compartir y dialogar sin temor a mostrase vulnerables. Utilice las conexiones naturales o conocidas que ya tiene para encontrar su grupo. Esto podría incluir gente en su ministerio, vecindario, lugar de trabajo, o conocidos. Recuerde, el cuerpo de Cristo es diverso, así  también su grupo podrá incluir varias clases de personas.  Establezca su horario de reuniones, lugar y frecuencia. Es bueno reunirse por lo menos dos veces al mes, pero semanalmente es me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tilice los recursos que parecen suplir mejor las necesidades del grupo. El material debiera estar basado en la Biblia, orientado a la vida práctica y apropiado para discutido en grupo.  (Nota: Para conseguir materiales consulte con la directora de los Ministerios de la Mujer de su Asoci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Comparta las responsabilidades de enseñar, guiar discusiones, tiempo social, oración, y ministerios con miembros talentosos del grupo. No sienta que usted tiene que hacer todas las cosas para el grupo.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TÍPICA REUNIÓN DE GRUPO PEQUEÑO (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típica reunión de grupo pequeño debiera asemejarse a 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Reúna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a mujer es afectuosamente saludada al llegar a la pue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roveen refres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n e invite la presencia del Espíritu S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mience con una pregunta para romper el hielo, que anime a la gente a compartir exper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studio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an en voz alta el pasaje de la Biblia que estarán estudi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un momento después de la lectura, para que la gente ore y medite en el pasaje en forma silencio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las bases de lo que han leído preguntando: quién, qué y dó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be un poquito más profundo. Haga unas pocas preguntas que generen ideas y tema para dialo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preguntas que animen a compartir cómo piensan que serán diferentes como consecuencia de lo que acaban de leer. Como por ejemplo: “¿Les habló el Señor durante esta hora? </a:t>
            </a:r>
            <a:r>
              <a:rPr b="0" lang="en-US" sz="1200" spc="-1" strike="noStrike">
                <a:solidFill>
                  <a:srgbClr val="000000"/>
                </a:solidFill>
                <a:latin typeface="Times New Roman"/>
              </a:rPr>
              <a:t>¿Hay algo que necesita cambiar? ¿Qué es? </a:t>
            </a:r>
            <a:r>
              <a:rPr b="0" lang="es-ES" sz="1200" spc="-1" strike="noStrike">
                <a:solidFill>
                  <a:srgbClr val="000000"/>
                </a:solidFill>
                <a:latin typeface="Times New Roman"/>
              </a:rPr>
              <a:t>¿Cuándo comenzarán el cambio?” (Se animará a dialogar, pero en forma volunt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ren junt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oportunidad a cada uno de expresar pedidos o motivos de gratitud para presentar a Dios en o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leve una agenda de pedidos de oración del grupo. Es emocionante y ayudará a crecer la fe del grupo al poder repasar para ver cómo Dios ha interveni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extiende demasiado el tiempo de pedidos, anime a la gente a hacer sus pedidos directamente a Dios (en lugar de mencionarlo al grupo primero) y pasen directamente a or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ríen la clase de oración que hacen. Podrían probar de orar una frase cada una, dividirse en pequeños grupos de a dos o de a tres para orar, si sucede que alguna del grupo está en crisis, deténganse y oren por ella allí mismo,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UPOS PEQUEÑOS QUE SE OCUPAN DE NECESIDADES ESPECÍFICAS (RP-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tipo de grupo pequeño que acabamos de describir es sumamente exitoso para crear lazos de comunión, presentar a Jesús,  y profundizar su relación y su caminar con Jesús. Estos grupos pequeños también se pueden adaptar para suplir necesidades específicas de las mujeres de su iglesia y comunidad. Este tipo de grupo pequeño puede ser increíblemente efectivo para cuidar de sus miembros y alcanzar a otros no crey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los grupos pequeños que suplen necesidades especiales, son efectivos únicamente si tratan las necesidades que las mujeres en su área ¡sienten realmente! Cómo líder de los Ministerios de la mujer, ¿Cómo puede evaluar las necesidades en su iglesia y com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ómo descubrir qué tipos de grupos pequeños o ministerios de apoyo son necesarios en su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para que Dios la ayude a captar las necesidades de los corazones de las mujeres en su congreg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s conversaciones, preste atención a los temas recurrente de necesidades y preocupaciones que se expre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diagnóstico con herramientas como un cuestionario o una encuesta de necesidades. Reparta los cuestionarios en la iglesia o en la próxima reunión de los MM de su iglesi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Cómo descubrir que tipos de ministerios de grupos pequeños de apoyo son necesarios en su comunidad?</a:t>
            </a:r>
            <a:r>
              <a:rPr b="0" lang="es-ES" sz="1200" spc="-1" strike="noStrike">
                <a:solidFill>
                  <a:srgbClr val="000000"/>
                </a:solidFill>
                <a:latin typeface="Times New Roman"/>
              </a:rPr>
              <a:t> No presuma que ya conoce las necesidades de las mujeres en su comunidad.  Dedique tiempo para orar ante Dios pidiéndole que le de sabiduría para comprender cuáles son las preocupaciones y necesidades que tienen las mujeres en su área. </a:t>
            </a:r>
            <a:r>
              <a:rPr b="0" lang="en-US" sz="1200" spc="-1" strike="noStrike">
                <a:solidFill>
                  <a:srgbClr val="000000"/>
                </a:solidFill>
                <a:latin typeface="Times New Roman"/>
              </a:rPr>
              <a:t>Entonces esfuércese por determinar cuáles son es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che, escuche, escuche: a sus amigas, a la gente con quien se encuentra,  las conversaciones de las personas en los negocios. </a:t>
            </a: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e cuáles son los temas desarrollados por los medios de comunicación local, en los diarios, TV o noticias rad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unte. </a:t>
            </a:r>
            <a:r>
              <a:rPr b="0" lang="es-ES" sz="1200" spc="-1" strike="noStrike">
                <a:solidFill>
                  <a:srgbClr val="000000"/>
                </a:solidFill>
                <a:latin typeface="Times New Roman"/>
              </a:rPr>
              <a:t>Encueste a la gente que usted conoce en la comunidad o a la gente en la calle. ¿Qué preocupación tiene? ¿Qué siente en su corazón? ¿Qué pensamientos ocupan su 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ecesidades que pueden sentir las mujeres pueden diferir ampliamente de región a región. El tiempo que dedique a tratar de entender las necesidades particulares de su área ¡Es tiempo bien invert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y ciertas necesidades que se dejan sentir comúnmente. </a:t>
            </a:r>
            <a:r>
              <a:rPr b="0" lang="es-ES" sz="1200" spc="-1" strike="noStrike">
                <a:solidFill>
                  <a:srgbClr val="000000"/>
                </a:solidFill>
                <a:latin typeface="Times New Roman"/>
              </a:rPr>
              <a:t>Tan diversas como son las mujeres, también tienen muchas cosas en común. Alrededor del mundo las madres están preocupadas por sus hijos; las mujeres en todas partes sienten dolor y pena cuando muere un ser am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en estos grupos tendrán necesidades especiles que debieran tratar en una reunión de grupo pequeño para apoyarlas. A continuación encontramos una lista de cinco necesidades especiales para grupos pequeños y algunos objetivos para los grupos que se formen para suplir estas necesidade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CÓMO RECOBRARSE DEL DUELO (RP-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a muerte es una parte inevitable de la vida, muchas personas temen la muerte y no todos son capaces de escuchar y hablar cómodamente con alguien que está en medio de la lucha con el dolor causado por la muerte de un ser amado. Por lo tanto, uno de los elementos más sanadores en la recuperación  del duelo, es encontrar un lugar seguro donde la gente pueda hablar acerca de su dolor y ser escuchada por gente capaz de simpatizar y compr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uen grupo de recuperación del duelo, ofrecerá ánimo y consuelo sobre una base de apoyo Cristocéntrica y bíblic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partir, Jesús le dio a sus discípulos la tarea a la que nos referimos a veces como la “Gran comisión.”  Mateo 28:19 dice “Por tanto id, y haced discípulos a todas las naciones, bautizándolos en el nombre del Padre, del Hijo, y del Espíritu Santo.” Si quisiéramos dividir esta importante tarea en dos partes importantes, quedaríamos con “Id”  y “haced discípulos.”  La parte de “id” significa que no podemos esperar que la gente camine adentro de nuestras iglesias y pida para ser bautizados; nosotros debemos ir e introducirlos a nuestro amigo Jesús. El bautismo y la enseñanza son una parte de hacerlos discípulos; ayudarlos a asemejarse más a ese Jesús que han decidido seg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 siento emocionada de compartir con ustedes hoy, lo que ha llegado a ser una de las herramientas más efectivas de hoy, conocidas por la iglesia para conectar a la gente con Jesús y desarrollarlas en el discipulado: los grupos pequeños. Se dan cuenta, para cumplir con la Gran Comisión, necesitamos ser no solamente “pescadores de hombres”  y mujeres, sino ¡Cuidadores del acuario! Los grupos pequeños, llenos del espíritu pueden ayudar a la iglesia a ser exitosos en amb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o mundo está clamando por una comunidad  auténtica, amorosa, que honre a Dios. Sin una comunidad cristiana nos sentiremos solitarios y poco efectivos en el servicio a Dios. Cuando la gente no se encuentra en una relación auténtica con Dios y los demás, a menudo tratan de llenar la necesidad de pertenencia, volviéndose neciamente a los bares, pandillas, y otros sustitutos para encontrar aceptación y propósito. Es a través de la relación con Dios y del uno con el otro encontramos plenitud y crecimiento. Es a través de relaciones auténticas que podemos alcanzar a otros más efectivamente. </a:t>
            </a:r>
            <a:r>
              <a:rPr b="1" lang="es-ES" sz="1200" spc="-1" strike="noStrike">
                <a:solidFill>
                  <a:srgbClr val="000000"/>
                </a:solidFill>
                <a:latin typeface="Times New Roman"/>
              </a:rPr>
              <a:t>(RP-1)</a:t>
            </a:r>
            <a:r>
              <a:rPr b="0" lang="es-ES" sz="1200" spc="-1" strike="noStrike">
                <a:solidFill>
                  <a:srgbClr val="000000"/>
                </a:solidFill>
                <a:latin typeface="Times New Roman"/>
              </a:rPr>
              <a:t> Los grupos pequeños son una herramienta efectiva para relacionarnos en forma efectiva y saludable con la comunida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19)</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 PowerPoint)</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mujer, que se unió a un grupo de recuperación de duelo después de la muerte de su esposo, describió su experienci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stando en el grupo subrayó] la increíble sensación de que Dios está con uno. Saber que está bien hacer el duelo, que Dios está acompañándonos en el sufrimiento.; pero también la esperanza  de saber lo que nos ofrece Dios y la eternidad. Mientras escuchaba las historias de otras en el grupo, encontré tantas ilustraciones de cómo Dios las había las había ayudado a levantar el ánimo con pequeños detalles durante los momentos difíciles; ilustraciones de cómo Dios estuvo caminando con ellas en los momentos más dolorosos. . . caminando a su lado cada día y cada fecha de aniversario. .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Se encuentra tanta fortaleza escuchado las experiencias de diferentes personas. . . es como el hermoso trabajo de armar una frazada con retazos de tela; la hermosa obra de arte  ‘de retazos de fe.’ Cada una de nosotras tenía diferentes huecos; cuando alguna tenía un interrogante, la otra tenía sus pies sólidamente afirmados al suelo. Y la fe de cada una fue fortalecida al compart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inglés existe un excelente recurso para un seminario semanal de recuperación del duelo y grupo de apoyo llamado </a:t>
            </a:r>
            <a:r>
              <a:rPr b="0" i="1" lang="es-ES" sz="1200" spc="-1" strike="noStrike">
                <a:solidFill>
                  <a:srgbClr val="000000"/>
                </a:solidFill>
                <a:latin typeface="Times New Roman"/>
              </a:rPr>
              <a:t>GriefShare</a:t>
            </a:r>
            <a:r>
              <a:rPr b="0" lang="es-ES" sz="1200" spc="-1" strike="noStrike">
                <a:solidFill>
                  <a:srgbClr val="000000"/>
                </a:solidFill>
                <a:latin typeface="Times New Roman"/>
              </a:rPr>
              <a:t> que se puede encontrar en internet en  www.griefrecovery.com. Está diseñada para ser guiada por personas laicas siguiendo el concepto descrito en  2 Corintios 1: 3-6; que nos anima a consolar a otros con el consuelo que nosotros mismos hemos recibido del Padre, Dios de toda compasión y consolación. (Si busca una lista de objetivos semanales ver el Apéndice 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describe en el sitio web de </a:t>
            </a:r>
            <a:r>
              <a:rPr b="0" i="1" lang="es-ES" sz="1200" spc="-1" strike="noStrike">
                <a:solidFill>
                  <a:srgbClr val="000000"/>
                </a:solidFill>
                <a:latin typeface="Times New Roman"/>
              </a:rPr>
              <a:t>GriefShare</a:t>
            </a:r>
            <a:r>
              <a:rPr b="0" lang="es-ES" sz="1200" spc="-1" strike="noStrike">
                <a:solidFill>
                  <a:srgbClr val="000000"/>
                </a:solidFill>
                <a:latin typeface="Times New Roman"/>
              </a:rPr>
              <a:t>, un grupo pequeño de recuperación del duelo es una excelente herramienta de alcance misionera porque “Cuando una persona está sufriendo profundamente por estar atravesando la etapa de duelo y pérdidas, a menudo se encuentran más abiertas a las soluciones espirituales para sus vidas. . . señálenles a Cristo como la única fuente duradera de sanidad.” (www.griefrecovery.com/pages/strtwks.htm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RECUPERACIÓN DEL DIVORCIO (RP-2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dida que los promedios de divorcio continúan elevándose, la iglesia tiene una oportunidad única de ministrar a aquellos que experimentan sus efectos devastadores. Un grupo pequeño de recuperación del divorcio es un lugar especial para recibir ánimo, información, y compartir experiencias para apoyar a aquellas que se encuentran enfrentando los asuntos relacionados con la separación y el divorci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recuperación del divorcio es proveer un lugar seguro, un ambiente de apoyo donde a través de la oración, el diálogo y la reflexión personal (hacer un diario personal). Las personas divorciadas pued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resar su sufrimiento y dol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dentificar las razones por las cuales se rompió el matrimonio y poder distinguir de que parte fue responsable cada uno de los espos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bajar con los sentimientos de dolor y enojo hacia su ex esposo y llegar a un punto donde le sea posible perdonar. </a:t>
            </a:r>
            <a:r>
              <a:rPr b="1" lang="es-ES" sz="1200" spc="-1" strike="noStrike">
                <a:solidFill>
                  <a:srgbClr val="000000"/>
                </a:solidFill>
                <a:latin typeface="Times New Roman"/>
              </a:rPr>
              <a:t>(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licar verdades a las circunstancias de separación/divorcio.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dmitir y confesar las cosas que debiera haber hecho difer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Aprender a ayudar a sus hijos a poder estabilizarse y guiarlos en el proceso de restablec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Descubrir cómo pueden fortalecer su carácter, caminar con Dios, y restablecerse del pasado, así si Dios los llama a casarse nuevamente, se encontrarán fortalecidas. (Ej: La habilidad de escoger un compañero por razones saludables en lugar de caer en una relación similar, cometiendo errores similar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recurso para recuperación del divorcio puede encontrarse en internet en www.divorcecare.com. (El bosquejo de su programa de 13 semanas puede encontrarse en el Apéndice B.)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GRUPO PEQUEÑO PARA MUJERES CUYOS ESPOSOS NO SON CREYENTES </a:t>
            </a:r>
            <a:r>
              <a:rPr b="1" lang="en-US" sz="1200" spc="-1" strike="noStrike">
                <a:solidFill>
                  <a:srgbClr val="000000"/>
                </a:solidFill>
                <a:latin typeface="Times New Roman"/>
              </a:rPr>
              <a:t>(RP-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e encuentran casadas con un incrédulo, necesitan un sistema de apoyo. Una mujer en esta situación  que ha guiado esta clase de ministerio de grupo pequeño dijo, “En la iglesia nos encontramos en la  ‘tierra de nadie’ ¡cuán literal! No somos divorciadas, no somos solas, y sin embargo no formamos parte de una pareja que puede compartir un ministerio de parejas. Es una situación incómoda y una puede llegar a sentirse muy solitaria. Además, es fácil pensar que es mi tarea convertir a mi esposo y que no existe ninguna otra posibilidad en ningún lado, si yo no puedo convertir ni a mi propio espos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Un grupo pequeño de esta clase </a:t>
            </a:r>
            <a:r>
              <a:rPr b="0" i="1" lang="es-ES" sz="1200" spc="-1" strike="noStrike">
                <a:solidFill>
                  <a:srgbClr val="000000"/>
                </a:solidFill>
                <a:latin typeface="Times New Roman"/>
              </a:rPr>
              <a:t>no es una sesión de agobio</a:t>
            </a:r>
            <a:r>
              <a:rPr b="0" lang="es-ES" sz="1200" spc="-1" strike="noStrike">
                <a:solidFill>
                  <a:srgbClr val="000000"/>
                </a:solidFill>
                <a:latin typeface="Times New Roman"/>
              </a:rPr>
              <a:t> o un lugar para ventilar intimidades de su esposo, sino un lugar donde las mujeres puedan encontrar ánimo y ayuda para cambiar actitudes de conmiseración propia y de culp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mujeres cuyos esposos son incrédulos, es un lugar seguro donde aquellas mujeres que se encuentren espiritualmente solas, pueden apoyarse y animarse mutuam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I Married a Possibility” (“Me casé con una posibilidad”) es el nombre del recurso preparado para grupos pequeños por el Departamento de Ministerios de la Mujer de la Asociación General. </a:t>
            </a:r>
            <a:r>
              <a:rPr b="0" lang="en-US" sz="1200" spc="-1" strike="noStrike">
                <a:solidFill>
                  <a:srgbClr val="000000"/>
                </a:solidFill>
                <a:latin typeface="Times New Roman"/>
              </a:rPr>
              <a:t>Otro buen recurso es el libro </a:t>
            </a:r>
            <a:r>
              <a:rPr b="0" i="1" lang="en-US" sz="1200" spc="-1" strike="noStrike">
                <a:solidFill>
                  <a:srgbClr val="000000"/>
                </a:solidFill>
                <a:latin typeface="Times New Roman"/>
              </a:rPr>
              <a:t>When He Doesn’t Believe: Help and Encouragement for Women Who Feel Alone in Their Faith</a:t>
            </a:r>
            <a:r>
              <a:rPr b="0" lang="en-US" sz="1200" spc="-1" strike="noStrike">
                <a:solidFill>
                  <a:srgbClr val="000000"/>
                </a:solidFill>
                <a:latin typeface="Times New Roman"/>
              </a:rPr>
              <a:t> by Nancy Kennedy. </a:t>
            </a:r>
            <a:r>
              <a:rPr b="0" lang="es-ES" sz="1200" spc="-1" strike="noStrike">
                <a:solidFill>
                  <a:srgbClr val="000000"/>
                </a:solidFill>
                <a:latin typeface="Times New Roman"/>
              </a:rPr>
              <a:t>(</a:t>
            </a:r>
            <a:r>
              <a:rPr b="0" i="1" lang="es-ES" sz="1200" spc="-1" strike="noStrike">
                <a:solidFill>
                  <a:srgbClr val="000000"/>
                </a:solidFill>
                <a:latin typeface="Times New Roman"/>
              </a:rPr>
              <a:t>Cuando él es incrédulo: ayuda y ánimo para mujeres que se sienten solas en su fe</a:t>
            </a:r>
            <a:r>
              <a:rPr b="0" lang="es-ES" sz="1200" spc="-1" strike="noStrike">
                <a:solidFill>
                  <a:srgbClr val="000000"/>
                </a:solidFill>
                <a:latin typeface="Times New Roman"/>
              </a:rPr>
              <a:t> por Nancy Kenned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PEQUEÑO DE MADRES (RP-2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adres de niños pequeños a menudo experimentan soledad y desánimo. Suplir las necesidades de los niños es una demanda constante aunque al mismo tiempo es fácil que las madres sientan que lo que están haciendo no es importa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madres es proveer un lugar seguro, enriquecedor y divertido donde las madres puedan encontrar ayuda, comprensión, ánimo la reafirmación de cuán importante es la maternidad. Un grupo pequeño de madres podría consistir en elementos tales como los siguient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esencial proveer gente que cuide a los niños durante el tiempo que dure el grupo pequeño. Se puede pedir a alguien que venga específicamente para cuidar los niños, o turnarse con las madres para cuidar a todos los niñ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What Every Mom Needs</a:t>
            </a:r>
            <a:r>
              <a:rPr b="0" lang="es-ES" sz="1200" spc="-1" strike="noStrike">
                <a:solidFill>
                  <a:srgbClr val="000000"/>
                </a:solidFill>
                <a:latin typeface="Times New Roman"/>
              </a:rPr>
              <a:t> (Lo que necesita toda mamá) por Elisa Morgan y Carol Kuykendall es otro recurso excelente para grupos de apoyo a madres como también MOPS (Mothers of Preschoolers)(Madres de pre escolares)International 1311 S. Clarkson St. Denver, CO USA 80201, phone: (303) 733-5353.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DE SOLAS (R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 una mujer soltera en la iglesia tiene sus propios desafíos únicos. Un grupo pequeño puede ayudar a las solteras a sobreponerse a los sentimientos de aislamiento y animarlas en su jornada como solteras cristian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solas proveerá un lugar seguro y edificante para solteras que puedan reunirse para apoyarse y enriquecerse mutuamente en sus vidas. Un grupo pequeño de esta clase proveerá a las mujeres solteras la oportunidad 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6)</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BÍBLICAS PARA LOS GRUPOS PEQUEÑOS (RP-2)</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no son una idea nueva.  Dios ha empleado esta maravillosa herramienta por milen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Modelo del Nuevo Testamento en un discipulado basado en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iscipulado, a menudo se piensa que tuvo lugar primariamente sobre una base  de estudios bíblicos de uno-en-uno.  Pero en el Nuevo Testamento, hacer discípulos era un evento de grupo. Como Phil Donahue declara en su libro, </a:t>
            </a:r>
            <a:r>
              <a:rPr b="0" i="1" lang="es-ES" sz="1200" spc="-1" strike="noStrike">
                <a:solidFill>
                  <a:srgbClr val="000000"/>
                </a:solidFill>
                <a:latin typeface="Times New Roman"/>
              </a:rPr>
              <a:t>Leading Life-Changing Small Groups (LLSG (</a:t>
            </a:r>
            <a:r>
              <a:rPr b="0" lang="es-ES" sz="1200" spc="-1" strike="noStrike">
                <a:solidFill>
                  <a:srgbClr val="000000"/>
                </a:solidFill>
                <a:latin typeface="Times New Roman"/>
              </a:rPr>
              <a:t>Cómo guiar grupos pequeños que cambian vidas</a:t>
            </a:r>
            <a:r>
              <a:rPr b="0" i="1" lang="es-ES" sz="1200" spc="-1" strike="noStrike">
                <a:solidFill>
                  <a:srgbClr val="000000"/>
                </a:solidFill>
                <a:latin typeface="Times New Roman"/>
              </a:rPr>
              <a:t>)</a:t>
            </a:r>
            <a:r>
              <a:rPr b="0" lang="es-ES" sz="1200" spc="-1" strike="noStrike">
                <a:solidFill>
                  <a:srgbClr val="000000"/>
                </a:solidFill>
                <a:latin typeface="Times New Roman"/>
              </a:rPr>
              <a:t>: “Las escrituras raramente registran a nuestro Señor en encuentros con menos de tres de los doce discípulos. . .” y sigue declarando que “Cuando miramos los encuentros de uno-a-uno entre: Jesús y Pedro, Pablo y Tmoteo, Pablo y Silas, es claro que éstas eran relaciones de desarrollo de liderazgo, no de un discipulado bá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nahue señala que  “discipular en el contexto de vida de grupo. . . permite que los discípulos crezcan en Cristo experimentando la enseñanza,  tutoría, amor, animar,  y compartir los dones de muchos hermanos y hermanas en Cristo. . . . Ministrar en y a través de los grupos y equipos, refleja más exactamente el modelo del Nuevo Testamento (Mar.3:14; Mat. 10:5-42; Hechos 3:2; Hechos 16:1-5)” (</a:t>
            </a:r>
            <a:r>
              <a:rPr b="0" i="1" lang="es-ES" sz="1200" spc="-1" strike="noStrike">
                <a:solidFill>
                  <a:srgbClr val="000000"/>
                </a:solidFill>
                <a:latin typeface="Times New Roman"/>
              </a:rPr>
              <a:t>LLSG</a:t>
            </a:r>
            <a:r>
              <a:rPr b="0" lang="es-ES" sz="1200" spc="-1" strike="noStrike">
                <a:solidFill>
                  <a:srgbClr val="000000"/>
                </a:solidFill>
                <a:latin typeface="Times New Roman"/>
              </a:rPr>
              <a:t>, 145). Esto también evita que un nuevo discípulo se convierta en un clon de cualquier miembro y estimula una atmósfera de apoyo, ministerio, responsabilidad, y entren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El ejemplo de los primeros cristi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ejores descripciones de esta clase de grupo se encuentra en Hechos 2:42-4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Y perseveraban en la doctrina de los apóstoles, en la comunión unos con otros, en el partimiento del pan y en las oraciones. Y sobrevino temor a toda persona y muchas maravillas y señales eran hechas por los apóstoles. Todos los que habían creído estaban juntos, y tenían en común todas las cosas; y vendían sus propiedades y sus tierras, y lo repartían a todos según la necesidad de caca uno. Y perseverando unánimes cada día en el templo, y partiendo el pan en las casas, comían juntos con alegría y sencillez de corazón. Alabando a Dios, y teniendo favor con todo el pueblo. Y el Señor añadía cada día a la iglesia los que habían de ser sal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una descripción de la iglesia apostólica.  Estaban involucrados en llevar a cavo todos los objetivos que una iglesia de hoy debiera cumplir: adoración, comunión, crecimiento espiritual continuo (o “discipulado”), servicio, y evangelización (alcanzar a otros) Y la iglesia no funcionaba un día a la semana durante un par de horas; se reunían durante la semana ¡Tambié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PARA MADRES CUYOS HIJOS NO SE ENCUENTRAN EN ESTE MOMENTO EN LA IGLESIA (RP-27)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hay nada más doloroso para una madre que saber que el corazón de su hijo/a se encuentra lejos de Dios. Las mujeres que se encuentran en esta situación han encontrado consuelo y fortaleza en los grupos pequeños designados para apoyarlas en esta experienci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e este tipo deberí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ir historias, penas y respuestas a oraciones en relación con hijos que no están en la iglesia. Dar apoyo a aquellas que están sufriendo y regocijarse con aquellas cuyos hijos están tomando pasos hacia Dios nuevament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alicen un “Torbellino de ideas” juntas. Piensen en distintas formas de alcanzar a los hijos: desarrollar programas especiales los días sábados para invitarlos; enviarles revistas significativas para ellos; pensar en eventos divertidos para invitar a los hijos incrédulos a actividades no eclesiásticas pero que les permitirá relacionarse con amigos en una forma cómoda (gente de la iglesi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r por los hijos por nombre. Llevar un diario de oración. Hacer un cartel de oración con los nombres o las fotos de los hijos, para orar colectivamente por ello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hijos han dejado la iglesia, traten de analizar que factor en su experiencia de relación con la iglesia pudo haber hecho que ellos reaccionen negativament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28)</a:t>
            </a:r>
            <a:endParaRPr b="0" lang="en-US" sz="10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que forma está actuando Dios en las vidas de sus hijos de modo que puedan agradecerle y cooperar con Dios al ministrar por sus hijo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centrarse en agradecer a Dios por haberle concedido ese hijo, recordar la bendición que significó para usted y entregárselo nuevamente al Señ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epartamento de los Ministerios de la Mujer de la Asociación General tiene materiales para grupos como estos titulado: “Prayer and Love Saves” o PALS.</a:t>
            </a:r>
            <a:r>
              <a:rPr b="1" lang="es-ES" sz="1200" spc="-1" strike="noStrike">
                <a:solidFill>
                  <a:srgbClr val="000000"/>
                </a:solidFill>
                <a:latin typeface="Times New Roman"/>
              </a:rPr>
              <a:t> </a:t>
            </a:r>
            <a:r>
              <a:rPr b="0" lang="es-ES" sz="1200" spc="-1" strike="noStrike">
                <a:solidFill>
                  <a:srgbClr val="000000"/>
                </a:solidFill>
                <a:latin typeface="Times New Roman"/>
              </a:rPr>
              <a:t>(</a:t>
            </a:r>
            <a:r>
              <a:rPr b="0" i="1" lang="es-ES" sz="1200" spc="-1" strike="noStrike">
                <a:solidFill>
                  <a:srgbClr val="000000"/>
                </a:solidFill>
                <a:latin typeface="Times New Roman"/>
              </a:rPr>
              <a:t>La oración y el amor salv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son algunos ejemplos de grupos pequeños que suplen necesidades especiales. La clave para lograr el mayor impacto para el reino de los cielos, con interés especial en los grupos pequeños, es determinar las necesidades que sienten las mujeres en el grupo al cual estarán ministran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upo pequeño es una fuerte herramienta  para el evangelismo, para hacer discípulos, cuidar de los miembros, fortalecer la comunión y adoración. El potencial que tienen los grupos pequeños para extender el reino de Dios es enorme. Dios la bendiga y guíe al determinar cómo utilizará este ministerio efectivo en su iglesi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os una mirada más cercana al tipo de vida en grupo de la iglesia cristiana primitiva, porque aquí encontramos todos los elementos para un grupo pequeño exitoso; como también los cinco propósitos de un grupo pequeño. Al leer nuevamente Hechos 2:42 al 47, vea si puede identificar cuál de los cinco propósitos (adoración, comunión, crecimiento espiritual continuo, servicio, o evangelización) ayudaba a realizar.</a:t>
            </a:r>
            <a:r>
              <a:rPr b="1" lang="es-ES" sz="1200" spc="-1" strike="noStrike">
                <a:solidFill>
                  <a:srgbClr val="000000"/>
                </a:solidFill>
                <a:latin typeface="Times New Roman"/>
              </a:rPr>
              <a:t> (RP-3)</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44560" y="695160"/>
            <a:ext cx="3510000" cy="2632320"/>
          </a:xfrm>
          <a:prstGeom prst="rect">
            <a:avLst/>
          </a:prstGeom>
          <a:ln w="0">
            <a:noFill/>
          </a:ln>
        </p:spPr>
      </p:sp>
      <p:sp>
        <p:nvSpPr>
          <p:cNvPr id="192" name="PlaceHolder 2"/>
          <p:cNvSpPr>
            <a:spLocks noGrp="1"/>
          </p:cNvSpPr>
          <p:nvPr>
            <p:ph type="body"/>
          </p:nvPr>
        </p:nvSpPr>
        <p:spPr>
          <a:xfrm>
            <a:off x="700200" y="3481200"/>
            <a:ext cx="5595840" cy="51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ELEMENTOS ESENCIALES DEL ÉXITO DE UN GRUPO PEQUEÑO (RP-6)</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mos dividir los elementos de los grupos en Hechos en categorías aún más simples, y tendremos los elementos esenciales para un grupo pequeño exito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t>
            </a:r>
            <a:r>
              <a:rPr b="0" lang="es-ES" sz="1200" spc="-1" strike="noStrike">
                <a:solidFill>
                  <a:srgbClr val="000000"/>
                </a:solidFill>
                <a:latin typeface="Times New Roman"/>
              </a:rPr>
              <a:t>	</a:t>
            </a:r>
            <a:r>
              <a:rPr b="0" i="1" lang="es-ES" sz="1200" spc="-1" strike="noStrike">
                <a:solidFill>
                  <a:srgbClr val="000000"/>
                </a:solidFill>
                <a:latin typeface="Times New Roman"/>
              </a:rPr>
              <a:t>Gente; un pequeño grupo de gente</a:t>
            </a:r>
            <a:r>
              <a:rPr b="0" lang="es-ES" sz="1200" spc="-1" strike="noStrike">
                <a:solidFill>
                  <a:srgbClr val="000000"/>
                </a:solidFill>
                <a:latin typeface="Times New Roman"/>
              </a:rPr>
              <a:t> (si no son más de 12 es mejor) que se reúne regularmente (una vez por semana es lo mejor) y sinceramente inviten la presencia de Dios en su medio. (¡El vendr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i="1" lang="es-ES" sz="1200" spc="-1" strike="noStrike">
                <a:solidFill>
                  <a:srgbClr val="000000"/>
                </a:solidFill>
                <a:latin typeface="Times New Roman"/>
              </a:rPr>
              <a:t>Alimento; Aún si es tan simple como pororó y agua, hay algo en compartir una comida que derriba las barreras entre las personas. También les dará una excusa a los interesados que sientan vergüenza de veni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i="1" lang="es-ES" sz="1200" spc="-1" strike="noStrike">
                <a:solidFill>
                  <a:srgbClr val="000000"/>
                </a:solidFill>
                <a:latin typeface="Times New Roman"/>
              </a:rPr>
              <a:t>Estudio de la Biblia y aplicación a la vida práctica; un estudio relevante, basado en principios bíblicos profundos.</a:t>
            </a:r>
            <a:r>
              <a:rPr b="0" lang="es-ES" sz="1200" spc="-1" strike="noStrike">
                <a:solidFill>
                  <a:srgbClr val="000000"/>
                </a:solidFill>
                <a:latin typeface="Times New Roman"/>
              </a:rPr>
              <a:t> La clave para este elemento es el énfasis en la aplicación a la vida diaria, no tan solo un asentimiento espiritual (o en el lenguaje de Jesús, debemos ser “hacedores” y no tan solamente “oidores” de la Palab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a:t>
            </a:r>
            <a:r>
              <a:rPr b="0" lang="es-ES" sz="1200" spc="-1" strike="noStrike">
                <a:solidFill>
                  <a:srgbClr val="000000"/>
                </a:solidFill>
                <a:latin typeface="Times New Roman"/>
              </a:rPr>
              <a:t>	</a:t>
            </a:r>
            <a:r>
              <a:rPr b="0" i="1" lang="es-ES" sz="1200" spc="-1" strike="noStrike">
                <a:solidFill>
                  <a:srgbClr val="000000"/>
                </a:solidFill>
                <a:latin typeface="Times New Roman"/>
              </a:rPr>
              <a:t>Compartir  mutuamente las vidas; ¡Esta es una parte esencial</a:t>
            </a:r>
            <a:r>
              <a:rPr b="0" lang="es-ES" sz="1200" spc="-1" strike="noStrike">
                <a:solidFill>
                  <a:srgbClr val="000000"/>
                </a:solidFill>
                <a:latin typeface="Times New Roman"/>
              </a:rPr>
              <a:t>! No la dejen de lado, ni tampoco permitan que sea lo dominante. Poder compartir en forma auténtica lo que  está sucediendo en las vidas de las personas, permitirá que los miembros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sientan responsables unos de los otros, por los cambios que Dios los está llamando a hacer en sus v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n ánimo y oren los unos por los otros a medida que surjan l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lebren las victorias de cada uno y alaben a Dios por sus bond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rmite que la gente hable acerca de lo que está ocurriendo en sus vidas y cómo el grupo de estudio está marcando una diferencia en su trabajo y vida social. A medida que surgen las necesidades del grupo, permitan que el Espíritu Santo los transforme en miembros de grupo poderosos para enfrentar las necedades tanto externas como internas, si es neces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t>
            </a:r>
            <a:r>
              <a:rPr b="0" lang="es-ES" sz="1200" spc="-1" strike="noStrike">
                <a:solidFill>
                  <a:srgbClr val="000000"/>
                </a:solidFill>
                <a:latin typeface="Times New Roman"/>
              </a:rPr>
              <a:t>	</a:t>
            </a:r>
            <a:r>
              <a:rPr b="0" i="1" lang="es-ES" sz="1200" spc="-1" strike="noStrike">
                <a:solidFill>
                  <a:srgbClr val="000000"/>
                </a:solidFill>
                <a:latin typeface="Times New Roman"/>
              </a:rPr>
              <a:t>Oración; </a:t>
            </a:r>
            <a:r>
              <a:rPr b="0" lang="es-ES" sz="1200" spc="-1" strike="noStrike">
                <a:solidFill>
                  <a:srgbClr val="000000"/>
                </a:solidFill>
                <a:latin typeface="Times New Roman"/>
              </a:rPr>
              <a:t>la oración sincera es la clave para el éxito de cualquier grupo. Ore al planificar a quién invitar, mientras se prepara, y durante la semana,</a:t>
            </a:r>
            <a:r>
              <a:rPr b="0" i="1" lang="es-ES" sz="1200" spc="-1" strike="noStrike">
                <a:solidFill>
                  <a:srgbClr val="000000"/>
                </a:solidFill>
                <a:latin typeface="Times New Roman"/>
              </a:rPr>
              <a:t> por cada miembro. Asegúrese de reservar tiempo para orar durante la reunión del grupo pequeño. </a:t>
            </a:r>
            <a:r>
              <a:rPr b="0" lang="es-ES" sz="1200" spc="-1" strike="noStrike">
                <a:solidFill>
                  <a:srgbClr val="000000"/>
                </a:solidFill>
                <a:latin typeface="Times New Roman"/>
              </a:rPr>
              <a:t>Anime a la gente a orar por los pedidos que llevan realmente en sus corazones; no tan solo por la salud de familiares lejanos. Que éste, sea un momento de alabanza, agradecimiento, petición y confesión a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i="1" lang="es-ES" sz="1200" spc="-1" strike="noStrike">
                <a:solidFill>
                  <a:srgbClr val="000000"/>
                </a:solidFill>
                <a:latin typeface="Times New Roman"/>
              </a:rPr>
              <a:t>Presencia en la comunidad con un propósito; </a:t>
            </a:r>
            <a:r>
              <a:rPr b="0" lang="es-ES" sz="1200" spc="-1" strike="noStrike">
                <a:solidFill>
                  <a:srgbClr val="000000"/>
                </a:solidFill>
                <a:latin typeface="Times New Roman"/>
              </a:rPr>
              <a:t>Si queremos llegar a ser la sal de la tierra, necesitamos salir del salero y ¡Alcanzar al mundo! La presencia de cristianos llenos del Espíritu Santo en el mundo es redentora. Ore con los miembros de su grupo acerca de cómo pueden servir a la gente en su comunidad, y cómo pueden relacionarse con ellos. Eventualmente, llegará el tiempo cuando el Espíritu Santo lo impresionará, a invitar a alguna de las personas con quienes se contactaron, a su grupo pequeño. Quizá nunca vea los resultados del reino, en las vidas de muchas de estas personas a quienes sirvieron. Pero Dios utilizará los recuerdos de cristianos amorosos y placenteros, para suavizar sus  corazones al evangelio y algún otro podrá cosechar lo que ustedes han sembr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clase de evangelismo que hizo Jesús. En el  </a:t>
            </a:r>
            <a:r>
              <a:rPr b="0" i="1" lang="es-ES" sz="1200" spc="-1" strike="noStrike">
                <a:solidFill>
                  <a:srgbClr val="000000"/>
                </a:solidFill>
                <a:latin typeface="Times New Roman"/>
              </a:rPr>
              <a:t>Deseado de todas las gentes,</a:t>
            </a:r>
            <a:r>
              <a:rPr b="0" lang="es-ES" sz="1200" spc="-1" strike="noStrike">
                <a:solidFill>
                  <a:srgbClr val="000000"/>
                </a:solidFill>
                <a:latin typeface="Times New Roman"/>
              </a:rPr>
              <a:t> p. 125, Elena de White nos dice que antes de que Jesús  comenzara su ministerio de predicación, se había ganado la confianza de la gente porque pasaba tiempo “yendo entre ella como quien desea su bien.” Además de las actividades grupales, anime a su grupo a dedicar tiempo a estar en forma individual con las personas. Recuérdeles la importancia de la interacción positiva con incrédulos, compartiendo experiencias de cómo Dios los ha bendecido cuando lo han experimentado personalmente.  Cada semana de la oportunidad para que compartan sus experiencias en este aspecto o asigne personas por las cuales trabajar, sobre una base de evangelización respo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diferentes clases de grupos pequeños dentro de una iglesia. Analizaremos algunos que suplen necesidades específicas, como ser: “Cómo recobrarse del duelo,” más adelante en este seminario. Pero un grupo pequeño básico, está formado por estos seis elementos: hasta 12 personas o menos que se reúnen para invitar la presencia de Dios, estudio de la Biblia y aplicación a la vida práctica (para un estudio basado en principios bíblicos), compartir experiencias de vida, oración, y una presencia significante en la comunidad, es la forma más básica de grupo pequeñ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iembros de un grupo pequeño de cambio de vida, experimentará en cierta medida cada uno de los cinco propósitos en la vida cristiana: adoración comunión, crecimiento espiritual continuo, servicio y evangelización, en su vida de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de el primer siglo hasta el siglo XXI, a lo largo de todo el mundo, los grupos pequeños han sido exitosos para traer a las personas a una relación transformadora con Jesucristo y han provisto un espacio para que ocurra un crecimiento espiritual continuo. Los grupos pequeños son una herramienta valiosa en los esfuerzos de la iglesia para completar la Gran Com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MPORTANCIA DE UN CRECIMIENTO ESPIRITUAL CONTINUO (DISCIPULAD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grar un crecimiento espiritual continuo es el blanco de los cristianos; Jesús promedio que aquellos que permanecen conectados con él ¡crecerán! Producirán fruto (Juan 15:5). Serán transformados a semejanza de Jesús. Y es en los grupos pequeños donde toma lugar esta transformación de vida más efectivamente,; aún más que solamente en un ambiente de iglesi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ÁL ES EL SECRETO DE LOS GRUPOS PEQUEÑOS QUE HACE TAN EFECTIVA LA TRANSFORMACIÓN DE VID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grupo pequeño comparado con los servicios en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é los grupos pequeños son tan efectivos como catalizadores en la transformación de vida? Mientras que adorar juntos con un grupo grande de creyentes y escuchar un sermón  es muy importante para el crecimiento del creyente; es posible ir a la iglesia año tras año y permanecer inamovibles en una butaca. El servicio en la iglesia puede ser una experiencia extremadamente pasiva. Usted va. Escucha al pastor. Se retira. Es fácil concordar mentalmente con el sermón y sin embargo salir de nuevo al mundo y permanecer iguales; conservando los principios predicados en nuestra cabeza, pero practicando un estilo muy deferente de vida en el hogar, y en nuestra relación con los demás o en nuestro traba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a la oportunidad de comentar lo que han escuchado y estudiado. Un grupo pequeño efectivo guiará siempre a la gente a considerar cómo lo que han aprendido impacta sus vidas. Los miembros del grupo reciben ánimo de los demás miembros del grupo, y a menudo cuentan con un compañero  con el que se ayudaran y responsabilizarán mutuamente. Era sumamente importante para Jesús que las personas no fueran tan solamente “oidoras” pero hacedoras de la Palabra. Se lo ha registrado refiriéndose a este aspecto de muchas maneras diferentes a través de los evangel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blo también se refiere a esta preocupación en Romanos 2:23 y 29: “Te jactas de conocer la ley de Dios, perola deshonras al violarla. . . porque Dios no anda en busca de [señales externas], sino de individuos con corazones e intelectos transformados” (La Biblia al día. Paráfrasis). “¿Cómo seré diferente hoy, por lo que he aprendido?” es una pregunta que el líder de un pequeño efectivo animará a que sea considerada al finalizar cada sesión de e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Necesidades humanas intrínseca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necesidad humana de tener una relación auténtica con Dios y con los demás es otro aspecto de la naturaleza humana que hace que los grupos pequeños sean un modelo de trabajo tan bueno para la iglesia. Necesitamos conocer y ser conocidos, amar y ser amados, servir y ser servidos (o interesarnos por otros y que otros se interesen en nosotros), festejar y ser festejados.</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ún Dios existe en una relación, la trinidad: el Padre, el Hijo, y el Espíritu Santo. La creación de nuestra raza comenzó con el deseo de Dios de estar en relación con nosotros; la historia de la salvación registra los alcances de lo que estuvo dispuesto a hacer para mantener esa conex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 formación de pequeños grupos como base de esfuerzo cristiano, es un plan que ha sido presentado ante mí por aquel que no puede equivocarse.  Si hay un gran número de hermanos en la iglesia, organícense en grupos pequeños, para trabajar no solamente por los miembros de la iglesia, sino por los no creyentes también.” El evangelismo, p.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se encuentran en la primera línea donde ocurre el ministerio. Proveen cuidado por los miembros así la gente que ya se encuentra en la iglesia, no se deslizará afuera, como también como un lugar para traer a la gente que está buscando a D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pero que a esta altura, se encuentre emocionada y ansiosa por comenzar el ministerio de los grupos pequeños en su iglesia. Entonces, ¿Cuándo comenzam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INISTERIO DE LOS GRUPOS PEQUEÑOS; ¿CÓMO COMENZAR?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1.</a:t>
            </a:r>
            <a:r>
              <a:rPr b="1" lang="es-ES" sz="1200" spc="-1" strike="noStrike">
                <a:solidFill>
                  <a:srgbClr val="000000"/>
                </a:solidFill>
                <a:latin typeface="Times New Roman"/>
              </a:rPr>
              <a:t> </a:t>
            </a:r>
            <a:r>
              <a:rPr b="1" i="1" lang="es-ES" sz="1200" spc="-1" strike="noStrike">
                <a:solidFill>
                  <a:srgbClr val="000000"/>
                </a:solidFill>
                <a:latin typeface="Times New Roman"/>
              </a:rPr>
              <a:t>¡Comience con oración!</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ministerio tan efectivo que el diablo tratará de descarriar desde el comienzo. Empape sus esfuerzos con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stá llamando Dios? Ruegue a Dios hasta que sienta la confianza de que Dios la está llamando para ser parte del proceso de armar un grupo/s pequeño/s que se programan en su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arte te está pidiendo él que lleves a cabo? También dedique tiempo a orar para sentir qué es lo que el Señor está queriendo que hagas: ¿Entusiasmar a la gente acerca de los grupos pequeños? ¿Comenzar un grupo pequeño? ¿Hablarle a una amiga que tiene el don del liderazgo? No avance hasta que sepa cual es el rol de este ministerio que Dios desea que jue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stos los tiempos de Dios? Pídale a Dios sabiduría para saber si este es el mejor momento para comenzar con uno o varios grupos pequeños en su iglesia. ) ¿Debiera esperar hasta que termine el verano, o hasta que termine la serie de reuniones evangelistas que se están llevando a cabo. Espere hasta que Dios le de la seguridad de es el momento correcto para comenzar  a construir su ministerio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ídale a Dios que le traiga a su mente personas con las cuales trabajar. Si está considerando la posibilidad de comenzar varios grupos pequeños, necesitará aproximarse con oración a los líderes en su iglesia.  Más importante aún, comience a buscar mujeres que estén activamente envueltas en una relación de crecimiento con Jesús y que buscan continuar creciendo. Considere:</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líderes que muestren un espíritu humilde, y el deseo de aprender.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ya estén sirviendo en los MM o con las cuales sospecha que podría trabajar bien.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tengan influencia en su iglesia. Si las puede ganar, también ganará a toda la gente que respeta sus opiniones.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muestren un potencial de liderazgo y de las cuales crea que podrían ejercer un buen liderazgo o ser anfitrionas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2. Modelo y tut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ejor forma de convencer a  alguien del poder de los grupos pequeños es ¡Permitirles que lo experimenten por sí mismas! Si está planificando comenzar un ministerio de grupos pequeños, sería bueno liderar un grupo pequeño formado por mujeres que usted piensa que podrán ser buenas líderes de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a en forma individual con las mujeres que esperas tener en tu grupo pequeño piloto. Ayúdales a entender el poder de los grupos pequeños y pídeles que oren acerca de la posibilidad de que se involuc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unta las mujeres para una reunión inicial y comenta lo que podrían hacer los grupos pequeños a favor de las mujeres en tu Iglesia y comunidad. Elige un tiempo, tema y duración del grupo pequeño pilo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de varias reuniones de grupo pequeño juntas, comienza a darles la oportunidad de dirigir a los otros miembros del grupo. Encuéntrate con ellas antes para orar y apoyarlas y luego al final para asesorarl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3D5C1-5A3B-4995-9F81-2AB1EDA6D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7"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BA5D5-C6DD-4F89-9F7A-0E9626510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0"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7B035-F607-4285-88FC-8E2E5D55C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5"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43A65-597F-4DE1-A137-BA63E9E8E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0958F-0E91-4D37-BEB6-A8F6A5C1C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7"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BE879-D7F1-49D4-8C06-2FE45E093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9"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06F05-F57C-4985-A341-6FF7773FC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1"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60DF8-B951-4AD3-A978-D6574D0C0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D1F4F-43E2-48FB-8F19-B895888FA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E8D17-B3A4-4F28-8567-96F2FFB7F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6"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085F8-422A-4DD9-A828-09A4F637E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CAD45-1086-47B5-97BD-A479CF39B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0F83E-1E69-4EB9-81FC-51B84C652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4"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8E53B-0EC4-45C9-9C83-07BC5599C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8"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3041B-3BCB-4807-BBA8-3D4CEAA53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1"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827F4-6BFC-4183-B3EB-C7D4DD393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6"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E1CCE-A8D8-41BB-A094-E95062049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E0C8D-D54E-415F-9FED-513B7C8D5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2422A-41A5-4C70-95A2-0DA56C9D4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94459-F303-4AF8-AEBF-45E605F62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C3596-5562-4F79-97F6-68E89F5B6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5"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2D8E3-9B96-423D-A7B7-9094BABE3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9"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AD256-E2B8-40D8-91F1-5F0247A43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3"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69934-476E-44CE-96A2-E0753B13A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1" name="PlaceHolder 2"/>
          <p:cNvSpPr>
            <a:spLocks noGrp="1"/>
          </p:cNvSpPr>
          <p:nvPr>
            <p:ph type="body"/>
          </p:nvPr>
        </p:nvSpPr>
        <p:spPr>
          <a:xfrm>
            <a:off x="3504960" y="2286000"/>
            <a:ext cx="518148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9A9D-E16A-496F-8504-D3E30FD8C86A}"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1447560"/>
            <a:ext cx="571500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BBCD-8C58-41AB-9072-F133F6C8F3E5}"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523520"/>
            <a:ext cx="69343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Grupos pequeños y Grupos de apoyo</a:t>
            </a:r>
            <a:endParaRPr b="1" lang="en-US" sz="4000" spc="-1" strike="noStrike">
              <a:solidFill>
                <a:srgbClr val="f6e8ee"/>
              </a:solidFill>
              <a:latin typeface="Verdana"/>
            </a:endParaRPr>
          </a:p>
        </p:txBody>
      </p:sp>
      <p:sp>
        <p:nvSpPr>
          <p:cNvPr id="90" name="PlaceHolder 2"/>
          <p:cNvSpPr>
            <a:spLocks noGrp="1"/>
          </p:cNvSpPr>
          <p:nvPr>
            <p:ph/>
          </p:nvPr>
        </p:nvSpPr>
        <p:spPr>
          <a:xfrm>
            <a:off x="2133360" y="2971800"/>
            <a:ext cx="5257800" cy="32004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Por </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icia Patterson</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 nivel 2</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Asociación General</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51920"/>
            <a:ext cx="6400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4" name="PlaceHolder 2"/>
          <p:cNvSpPr>
            <a:spLocks noGrp="1"/>
          </p:cNvSpPr>
          <p:nvPr>
            <p:ph/>
          </p:nvPr>
        </p:nvSpPr>
        <p:spPr>
          <a:xfrm>
            <a:off x="990360" y="1600200"/>
            <a:ext cx="4343400" cy="3581280"/>
          </a:xfrm>
          <a:prstGeom prst="rect">
            <a:avLst/>
          </a:prstGeom>
          <a:noFill/>
          <a:ln w="0">
            <a:noFill/>
          </a:ln>
        </p:spPr>
        <p:txBody>
          <a:bodyPr lIns="90000" rIns="90000" tIns="46800" bIns="46800"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Busque miembros que tomen en serio el grupo.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Tome en cuenta aquellas personas que desafían tu liderazgo. Quizá sean líderes potenciales frustrados.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Busque gente talentosa a quienes puedas reconocer y afirmar.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Ore en forma regular pidiendo la dirección divina.</a:t>
            </a:r>
            <a:endParaRPr b="0" lang="en-US" sz="2400" spc="-1" strike="noStrike">
              <a:solidFill>
                <a:srgbClr val="f6e8ee"/>
              </a:solidFill>
              <a:latin typeface="Georgia"/>
            </a:endParaRPr>
          </a:p>
        </p:txBody>
      </p:sp>
      <p:pic>
        <p:nvPicPr>
          <p:cNvPr id="115" name="" descr=""/>
          <p:cNvPicPr/>
          <p:nvPr/>
        </p:nvPicPr>
        <p:blipFill>
          <a:blip r:embed="rId2"/>
          <a:srcRect l="27659" t="0" r="0" b="0"/>
          <a:stretch/>
        </p:blipFill>
        <p:spPr>
          <a:xfrm>
            <a:off x="5334120" y="2057400"/>
            <a:ext cx="332568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rcRect l="20272" t="0" r="0" b="0"/>
          <a:stretch/>
        </p:blipFill>
        <p:spPr>
          <a:xfrm>
            <a:off x="5105520" y="2209680"/>
            <a:ext cx="3454200" cy="3249720"/>
          </a:xfrm>
          <a:prstGeom prst="rect">
            <a:avLst/>
          </a:prstGeom>
          <a:ln w="0">
            <a:noFill/>
          </a:ln>
        </p:spPr>
      </p:pic>
      <p:sp>
        <p:nvSpPr>
          <p:cNvPr id="117" name="PlaceHolder 1"/>
          <p:cNvSpPr>
            <a:spLocks noGrp="1"/>
          </p:cNvSpPr>
          <p:nvPr>
            <p:ph type="title"/>
          </p:nvPr>
        </p:nvSpPr>
        <p:spPr>
          <a:xfrm>
            <a:off x="1142640" y="761760"/>
            <a:ext cx="60958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8" name="PlaceHolder 2"/>
          <p:cNvSpPr>
            <a:spLocks noGrp="1"/>
          </p:cNvSpPr>
          <p:nvPr>
            <p:ph/>
          </p:nvPr>
        </p:nvSpPr>
        <p:spPr>
          <a:xfrm>
            <a:off x="838080" y="2057400"/>
            <a:ext cx="518184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 </a:t>
            </a:r>
            <a:r>
              <a:rPr b="0" lang="es-ES" sz="2800" spc="-1" strike="noStrike">
                <a:solidFill>
                  <a:srgbClr val="ffffff"/>
                </a:solidFill>
                <a:latin typeface="Georgia"/>
              </a:rPr>
              <a:t>Busque personas que abracen la visión de los grupos pequeño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Intente buscar gente que exhiba las cualidades espirituales, emocionales y sociales necesaria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040" y="1371600"/>
            <a:ext cx="3809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 </a:t>
            </a:r>
            <a:r>
              <a:rPr b="0" lang="es-ES" sz="2800" spc="-1" strike="noStrike">
                <a:solidFill>
                  <a:srgbClr val="ffffff"/>
                </a:solidFill>
                <a:latin typeface="Georgia"/>
              </a:rPr>
              <a:t>7. Una vez que termine el periodo de su grupo piloto, hable con las líderes potenciales y anfitrionas de su grupo para evaluar su interés en </a:t>
            </a:r>
            <a:r>
              <a:rPr b="0" lang="es-ES" sz="2800" spc="-1" strike="noStrike">
                <a:solidFill>
                  <a:srgbClr val="ffffff"/>
                </a:solidFill>
                <a:latin typeface="Georgia"/>
              </a:rPr>
              <a:t>	</a:t>
            </a:r>
            <a:r>
              <a:rPr b="0" lang="es-ES" sz="2800" spc="-1" strike="noStrike">
                <a:solidFill>
                  <a:srgbClr val="ffffff"/>
                </a:solidFill>
                <a:latin typeface="Georgia"/>
              </a:rPr>
              <a:t>dirigir la charla o ser </a:t>
            </a:r>
            <a:r>
              <a:rPr b="0" lang="es-ES" sz="2800" spc="-1" strike="noStrike">
                <a:solidFill>
                  <a:srgbClr val="ffffff"/>
                </a:solidFill>
                <a:latin typeface="Georgia"/>
              </a:rPr>
              <a:t>	</a:t>
            </a:r>
            <a:r>
              <a:rPr b="0" lang="es-ES" sz="2800" spc="-1" strike="noStrike">
                <a:solidFill>
                  <a:srgbClr val="ffffff"/>
                </a:solidFill>
                <a:latin typeface="Georgia"/>
              </a:rPr>
              <a:t>anfitriona de un grupo.</a:t>
            </a:r>
            <a:endParaRPr b="0" lang="en-US" sz="2800" spc="-1" strike="noStrike">
              <a:solidFill>
                <a:srgbClr val="f6e8ee"/>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pic>
        <p:nvPicPr>
          <p:cNvPr id="120" name="" descr=""/>
          <p:cNvPicPr/>
          <p:nvPr/>
        </p:nvPicPr>
        <p:blipFill>
          <a:blip r:embed="rId2"/>
          <a:stretch/>
        </p:blipFill>
        <p:spPr>
          <a:xfrm>
            <a:off x="4876920" y="2209680"/>
            <a:ext cx="3733560" cy="27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895480" y="4191120"/>
            <a:ext cx="3381480" cy="2262240"/>
          </a:xfrm>
          <a:prstGeom prst="rect">
            <a:avLst/>
          </a:prstGeom>
          <a:ln w="0">
            <a:noFill/>
          </a:ln>
        </p:spPr>
      </p:pic>
      <p:sp>
        <p:nvSpPr>
          <p:cNvPr id="122" name="PlaceHolder 1"/>
          <p:cNvSpPr>
            <a:spLocks noGrp="1"/>
          </p:cNvSpPr>
          <p:nvPr>
            <p:ph type="title"/>
          </p:nvPr>
        </p:nvSpPr>
        <p:spPr>
          <a:xfrm>
            <a:off x="1371240" y="838080"/>
            <a:ext cx="66294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supero las objeciones de las líderes potenciales?</a:t>
            </a:r>
            <a:endParaRPr b="1" lang="en-US" sz="3600" spc="-1" strike="noStrike">
              <a:solidFill>
                <a:srgbClr val="f6e8ee"/>
              </a:solidFill>
              <a:latin typeface="Verdana"/>
            </a:endParaRPr>
          </a:p>
        </p:txBody>
      </p:sp>
      <p:sp>
        <p:nvSpPr>
          <p:cNvPr id="123" name="PlaceHolder 2"/>
          <p:cNvSpPr>
            <a:spLocks noGrp="1"/>
          </p:cNvSpPr>
          <p:nvPr>
            <p:ph type="subTitle"/>
          </p:nvPr>
        </p:nvSpPr>
        <p:spPr>
          <a:xfrm>
            <a:off x="533520" y="2514240"/>
            <a:ext cx="8610480" cy="2590920"/>
          </a:xfrm>
          <a:prstGeom prst="rect">
            <a:avLst/>
          </a:prstGeom>
          <a:noFill/>
          <a:ln w="0">
            <a:noFill/>
          </a:ln>
        </p:spPr>
        <p:txBody>
          <a:bodyPr lIns="90000" rIns="90000" tIns="46800" bIns="46800" anchor="t">
            <a:noAutofit/>
          </a:bodyPr>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i="1" lang="es-ES" sz="3600" spc="-1" strike="noStrike">
                <a:solidFill>
                  <a:srgbClr val="ffffff"/>
                </a:solidFill>
                <a:latin typeface="Georgia"/>
              </a:rPr>
              <a:t>“Sencillamente no tengo tiemp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 </a:t>
            </a:r>
            <a:r>
              <a:rPr b="0" i="1" lang="es-ES" sz="3600" spc="-1" strike="noStrike">
                <a:solidFill>
                  <a:srgbClr val="ffffff"/>
                </a:solidFill>
                <a:latin typeface="Georgia"/>
              </a:rPr>
              <a:t>“No tengo el don de liderazg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 </a:t>
            </a:r>
            <a:r>
              <a:rPr b="0" i="1" lang="es-ES" sz="3600" spc="-1" strike="noStrike">
                <a:solidFill>
                  <a:srgbClr val="ffffff"/>
                </a:solidFill>
                <a:latin typeface="Georgia"/>
              </a:rPr>
              <a:t>“No soy ese tipo de persona (líder).”</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5181480" y="2743200"/>
            <a:ext cx="3319560" cy="2590920"/>
          </a:xfrm>
          <a:prstGeom prst="rect">
            <a:avLst/>
          </a:prstGeom>
          <a:ln w="0">
            <a:noFill/>
          </a:ln>
        </p:spPr>
      </p:pic>
      <p:sp>
        <p:nvSpPr>
          <p:cNvPr id="125" name="PlaceHolder 1"/>
          <p:cNvSpPr>
            <a:spLocks noGrp="1"/>
          </p:cNvSpPr>
          <p:nvPr>
            <p:ph type="title"/>
          </p:nvPr>
        </p:nvSpPr>
        <p:spPr>
          <a:xfrm>
            <a:off x="1828800" y="609120"/>
            <a:ext cx="632448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6" name="PlaceHolder 2"/>
          <p:cNvSpPr>
            <a:spLocks noGrp="1"/>
          </p:cNvSpPr>
          <p:nvPr>
            <p:ph/>
          </p:nvPr>
        </p:nvSpPr>
        <p:spPr>
          <a:xfrm>
            <a:off x="990360" y="1980720"/>
            <a:ext cx="373356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A. </a:t>
            </a:r>
            <a:r>
              <a:rPr b="0" i="1" lang="es-ES" sz="2800" spc="-1" strike="noStrike">
                <a:solidFill>
                  <a:srgbClr val="ffffff"/>
                </a:solidFill>
                <a:latin typeface="Georgia"/>
              </a:rPr>
              <a:t>¿Qué cualidades debería tener un líder de grupos pequeños?</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a:t>
            </a:r>
            <a:r>
              <a:rPr b="0" lang="es-ES" sz="2400" spc="-1" strike="noStrike">
                <a:solidFill>
                  <a:srgbClr val="ffffff"/>
                </a:solidFill>
                <a:latin typeface="Georgia"/>
              </a:rPr>
              <a:t>	</a:t>
            </a:r>
            <a:r>
              <a:rPr b="0" lang="es-ES" sz="2400" spc="-1" strike="noStrike">
                <a:solidFill>
                  <a:srgbClr val="ffffff"/>
                </a:solidFill>
                <a:latin typeface="Georgia"/>
              </a:rPr>
              <a:t>Una relación con Jesús en crecimiento</a:t>
            </a:r>
            <a:endParaRPr b="0" lang="en-US" sz="24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Un sentimiento de que Dios la está llamando a liderar un grupo pequeño</a:t>
            </a:r>
            <a:endParaRPr b="0" lang="en-US" sz="24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Carácter y habilidad</a:t>
            </a:r>
            <a:r>
              <a:rPr b="0" i="1" lang="es-ES" sz="2800" spc="-1" strike="noStrike">
                <a:solidFill>
                  <a:srgbClr val="ffffff"/>
                </a:solidFill>
                <a:latin typeface="Georgia"/>
              </a:rPr>
              <a:t> </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533520"/>
            <a:ext cx="66294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8" name=""/>
          <p:cNvSpPr/>
          <p:nvPr/>
        </p:nvSpPr>
        <p:spPr>
          <a:xfrm>
            <a:off x="533520" y="18288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eorgia"/>
              </a:rPr>
              <a:t>B. </a:t>
            </a:r>
            <a:r>
              <a:rPr b="0" i="1" lang="es-ES" sz="2600" spc="-1" strike="noStrike">
                <a:solidFill>
                  <a:srgbClr val="ffffff"/>
                </a:solidFill>
                <a:latin typeface="Georgia"/>
              </a:rPr>
              <a:t>¿Cuáles son las responsabilidades básicas de una líder de grupo pequeño?</a:t>
            </a:r>
            <a:endParaRPr b="0" lang="en-US" sz="2600" spc="-1" strike="noStrike">
              <a:solidFill>
                <a:srgbClr val="f6e8ee"/>
              </a:solidFill>
              <a:latin typeface="Times New Roman"/>
            </a:endParaRPr>
          </a:p>
        </p:txBody>
      </p:sp>
      <p:sp>
        <p:nvSpPr>
          <p:cNvPr id="129" name=""/>
          <p:cNvSpPr/>
          <p:nvPr/>
        </p:nvSpPr>
        <p:spPr>
          <a:xfrm>
            <a:off x="4724280" y="2514600"/>
            <a:ext cx="3962520" cy="4117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 </a:t>
            </a:r>
            <a:r>
              <a:rPr b="0" lang="es-ES" sz="2400" spc="-1" strike="noStrike">
                <a:solidFill>
                  <a:srgbClr val="ffffff"/>
                </a:solidFill>
                <a:latin typeface="Georgia"/>
              </a:rPr>
              <a:t>	</a:t>
            </a:r>
            <a:r>
              <a:rPr b="0" lang="es-ES" sz="2400" spc="-1" strike="noStrike">
                <a:solidFill>
                  <a:srgbClr val="ffffff"/>
                </a:solidFill>
                <a:latin typeface="Georgia"/>
              </a:rPr>
              <a:t>Elegir una persona para ir formándol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7.</a:t>
            </a:r>
            <a:r>
              <a:rPr b="0" lang="es-ES" sz="2400" spc="-1" strike="noStrike">
                <a:solidFill>
                  <a:srgbClr val="ffffff"/>
                </a:solidFill>
                <a:latin typeface="Georgia"/>
              </a:rPr>
              <a:t>	</a:t>
            </a:r>
            <a:r>
              <a:rPr b="0" lang="es-ES" sz="2400" spc="-1" strike="noStrike">
                <a:solidFill>
                  <a:srgbClr val="ffffff"/>
                </a:solidFill>
                <a:latin typeface="Georgia"/>
              </a:rPr>
              <a:t>Pastorear los miembros de su grup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8.</a:t>
            </a:r>
            <a:r>
              <a:rPr b="0" lang="es-ES" sz="2400" spc="-1" strike="noStrike">
                <a:solidFill>
                  <a:srgbClr val="ffffff"/>
                </a:solidFill>
                <a:latin typeface="Georgia"/>
              </a:rPr>
              <a:t>	</a:t>
            </a:r>
            <a:r>
              <a:rPr b="0" lang="es-ES" sz="2400" spc="-1" strike="noStrike">
                <a:solidFill>
                  <a:srgbClr val="ffffff"/>
                </a:solidFill>
                <a:latin typeface="Georgia"/>
              </a:rPr>
              <a:t>Expandir el ministeri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9.</a:t>
            </a:r>
            <a:r>
              <a:rPr b="0" lang="es-ES" sz="2400" spc="-1" strike="noStrike">
                <a:solidFill>
                  <a:srgbClr val="ffffff"/>
                </a:solidFill>
                <a:latin typeface="Georgia"/>
              </a:rPr>
              <a:t>	</a:t>
            </a:r>
            <a:r>
              <a:rPr b="0" lang="es-ES" sz="2400" spc="-1" strike="noStrike">
                <a:solidFill>
                  <a:srgbClr val="ffffff"/>
                </a:solidFill>
                <a:latin typeface="Georgia"/>
              </a:rPr>
              <a:t>Animar a cada miembro del grupo a permanecer en una relación saludable con la iglesi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pic>
        <p:nvPicPr>
          <p:cNvPr id="130" name="" descr=""/>
          <p:cNvPicPr/>
          <p:nvPr/>
        </p:nvPicPr>
        <p:blipFill>
          <a:blip r:embed="rId2"/>
          <a:stretch/>
        </p:blipFill>
        <p:spPr>
          <a:xfrm>
            <a:off x="1143000" y="2819520"/>
            <a:ext cx="2247840" cy="319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1295280"/>
            <a:ext cx="678168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8f824"/>
                </a:solidFill>
                <a:latin typeface="Verdana"/>
              </a:rPr>
              <a:t>Una típica reunión de grupo pequeño</a:t>
            </a:r>
            <a:endParaRPr b="1" lang="en-US" sz="4800" spc="-1" strike="noStrike">
              <a:solidFill>
                <a:srgbClr val="f6e8ee"/>
              </a:solidFill>
              <a:latin typeface="Verdana"/>
            </a:endParaRPr>
          </a:p>
        </p:txBody>
      </p:sp>
      <p:sp>
        <p:nvSpPr>
          <p:cNvPr id="132" name="PlaceHolder 2"/>
          <p:cNvSpPr>
            <a:spLocks noGrp="1"/>
          </p:cNvSpPr>
          <p:nvPr>
            <p:ph type="subTitle"/>
          </p:nvPr>
        </p:nvSpPr>
        <p:spPr>
          <a:xfrm>
            <a:off x="3505320" y="3809880"/>
            <a:ext cx="449568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lang="es-ES" sz="3600" spc="-1" strike="noStrike">
                <a:solidFill>
                  <a:srgbClr val="ffffff"/>
                </a:solidFill>
                <a:latin typeface="Georgia"/>
              </a:rPr>
              <a:t>Reunir el grupo</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Estudiar la Biblia</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Orar juntas</a:t>
            </a:r>
            <a:endParaRPr b="0" lang="en-US" sz="3600" spc="-1" strike="noStrike">
              <a:solidFill>
                <a:srgbClr val="f6e8ee"/>
              </a:solidFill>
              <a:latin typeface="Georgia"/>
            </a:endParaRPr>
          </a:p>
        </p:txBody>
      </p:sp>
      <p:pic>
        <p:nvPicPr>
          <p:cNvPr id="133" name="" descr=""/>
          <p:cNvPicPr/>
          <p:nvPr/>
        </p:nvPicPr>
        <p:blipFill>
          <a:blip r:embed="rId2"/>
          <a:stretch/>
        </p:blipFill>
        <p:spPr>
          <a:xfrm>
            <a:off x="1143000" y="358128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6840"/>
            <a:ext cx="63244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para necesidades específicas</a:t>
            </a:r>
            <a:endParaRPr b="1" lang="en-US" sz="3200" spc="-1" strike="noStrike">
              <a:solidFill>
                <a:srgbClr val="f6e8ee"/>
              </a:solidFill>
              <a:latin typeface="Verdana"/>
            </a:endParaRPr>
          </a:p>
        </p:txBody>
      </p:sp>
      <p:sp>
        <p:nvSpPr>
          <p:cNvPr id="135" name="PlaceHolder 2"/>
          <p:cNvSpPr>
            <a:spLocks noGrp="1"/>
          </p:cNvSpPr>
          <p:nvPr>
            <p:ph/>
          </p:nvPr>
        </p:nvSpPr>
        <p:spPr>
          <a:xfrm>
            <a:off x="838080" y="1980720"/>
            <a:ext cx="7925040" cy="441972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1. </a:t>
            </a:r>
            <a:r>
              <a:rPr b="0" lang="es-ES" sz="3600" spc="-1" strike="noStrike">
                <a:solidFill>
                  <a:srgbClr val="ffffff"/>
                </a:solidFill>
                <a:latin typeface="Georgia"/>
              </a:rPr>
              <a:t>¿Cómo descubrir qué tipos de grupos pequeños o ministerios de apoyo son necesarios en su iglesia? </a:t>
            </a:r>
            <a:endParaRPr b="0" lang="en-US" sz="36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Ore para que Dios la ayude a captar las </a:t>
            </a:r>
            <a:r>
              <a:rPr b="0" lang="es-ES" sz="2800" spc="-1" strike="noStrike">
                <a:solidFill>
                  <a:srgbClr val="ffffff"/>
                </a:solidFill>
                <a:latin typeface="Georgia"/>
              </a:rPr>
              <a:t>	</a:t>
            </a:r>
            <a:r>
              <a:rPr b="0" lang="es-ES" sz="2800" spc="-1" strike="noStrike">
                <a:solidFill>
                  <a:srgbClr val="ffffff"/>
                </a:solidFill>
                <a:latin typeface="Georgia"/>
              </a:rPr>
              <a:t>necesidades de los corazones de las </a:t>
            </a:r>
            <a:r>
              <a:rPr b="0" lang="es-ES" sz="2800" spc="-1" strike="noStrike">
                <a:solidFill>
                  <a:srgbClr val="ffffff"/>
                </a:solidFill>
                <a:latin typeface="Georgia"/>
              </a:rPr>
              <a:t>	</a:t>
            </a:r>
            <a:r>
              <a:rPr b="0" lang="es-ES" sz="2800" spc="-1" strike="noStrike">
                <a:solidFill>
                  <a:srgbClr val="ffffff"/>
                </a:solidFill>
                <a:latin typeface="Georgia"/>
              </a:rPr>
              <a:t>mujeres en su congregación. </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En las conversaciones, preste atención a </a:t>
            </a:r>
            <a:r>
              <a:rPr b="0" lang="es-ES" sz="2800" spc="-1" strike="noStrike">
                <a:solidFill>
                  <a:srgbClr val="ffffff"/>
                </a:solidFill>
                <a:latin typeface="Georgia"/>
              </a:rPr>
              <a:t>	</a:t>
            </a:r>
            <a:r>
              <a:rPr b="0" lang="es-ES" sz="2800" spc="-1" strike="noStrike">
                <a:solidFill>
                  <a:srgbClr val="ffffff"/>
                </a:solidFill>
                <a:latin typeface="Georgia"/>
              </a:rPr>
              <a:t>los temas recurrente de necesidades y </a:t>
            </a:r>
            <a:r>
              <a:rPr b="0" lang="es-ES" sz="2800" spc="-1" strike="noStrike">
                <a:solidFill>
                  <a:srgbClr val="ffffff"/>
                </a:solidFill>
                <a:latin typeface="Georgia"/>
              </a:rPr>
              <a:t>	</a:t>
            </a:r>
            <a:r>
              <a:rPr b="0" lang="es-ES" sz="2800" spc="-1" strike="noStrike">
                <a:solidFill>
                  <a:srgbClr val="ffffff"/>
                </a:solidFill>
                <a:latin typeface="Georgia"/>
              </a:rPr>
              <a:t>preocupaciones que se expresen.</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Haga un diagnóstico</a:t>
            </a:r>
            <a:endParaRPr b="0" lang="en-US" sz="2800" spc="-1" strike="noStrike">
              <a:solidFill>
                <a:srgbClr val="f6e8ee"/>
              </a:solidFill>
              <a:latin typeface="Georgia"/>
            </a:endParaRPr>
          </a:p>
        </p:txBody>
      </p:sp>
      <p:pic>
        <p:nvPicPr>
          <p:cNvPr id="136" name="" descr=""/>
          <p:cNvPicPr/>
          <p:nvPr/>
        </p:nvPicPr>
        <p:blipFill>
          <a:blip r:embed="rId2"/>
          <a:stretch/>
        </p:blipFill>
        <p:spPr>
          <a:xfrm>
            <a:off x="7162920" y="4876920"/>
            <a:ext cx="1706400" cy="169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057040" y="685800"/>
            <a:ext cx="6629400" cy="5410080"/>
          </a:xfrm>
          <a:prstGeom prst="rect">
            <a:avLst/>
          </a:prstGeom>
          <a:noFill/>
          <a:ln w="0">
            <a:noFill/>
          </a:ln>
        </p:spPr>
        <p:txBody>
          <a:bodyPr lIns="90000" rIns="90000" tIns="46800" bIns="46800" anchor="t">
            <a:normAutofit fontScale="99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2. </a:t>
            </a:r>
            <a:r>
              <a:rPr b="0" i="1" lang="es-ES" sz="3200" spc="-1" strike="noStrike">
                <a:solidFill>
                  <a:srgbClr val="ffffff"/>
                </a:solidFill>
                <a:latin typeface="Georgia"/>
              </a:rPr>
              <a:t>¿Cómo descubrir que tipos de ministerios de grupos pequeños de apoyo son necesarios en su comunidad?</a:t>
            </a:r>
            <a:endParaRPr b="0" lang="en-US" sz="32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scuche, escuche, escuche: a sus amigas, a la gente con quien se encuentra,  las conversaciones de las personas en los negocio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ote cuáles son los temas desarrollados por los medios de comunicación local, en los diarios, TV o noticias radiale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Pregunte. Encueste a la gente que usted conoce en la comunidad o a la gente en la calle. ¿Qué preocupación tiene? ¿Qué siente en su corazón? ¿Qué pensamientos ocupan su mente? </a:t>
            </a:r>
            <a:endParaRPr b="0" lang="en-US" sz="2400" spc="-1" strike="noStrike">
              <a:solidFill>
                <a:srgbClr val="f6e8ee"/>
              </a:solidFill>
              <a:latin typeface="Georgia"/>
            </a:endParaRPr>
          </a:p>
        </p:txBody>
      </p:sp>
      <p:pic>
        <p:nvPicPr>
          <p:cNvPr id="138" name="" descr=""/>
          <p:cNvPicPr/>
          <p:nvPr/>
        </p:nvPicPr>
        <p:blipFill>
          <a:blip r:embed="rId2"/>
          <a:stretch/>
        </p:blipFill>
        <p:spPr>
          <a:xfrm>
            <a:off x="609480" y="3048120"/>
            <a:ext cx="2178000" cy="211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590920" y="76320"/>
            <a:ext cx="3814560" cy="6781680"/>
          </a:xfrm>
          <a:prstGeom prst="rect">
            <a:avLst/>
          </a:prstGeom>
          <a:ln w="0">
            <a:noFill/>
          </a:ln>
        </p:spPr>
      </p:pic>
      <p:sp>
        <p:nvSpPr>
          <p:cNvPr id="140" name="PlaceHolder 1"/>
          <p:cNvSpPr>
            <a:spLocks noGrp="1"/>
          </p:cNvSpPr>
          <p:nvPr>
            <p:ph type="title"/>
          </p:nvPr>
        </p:nvSpPr>
        <p:spPr>
          <a:xfrm>
            <a:off x="1676160" y="609120"/>
            <a:ext cx="693396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1" name="PlaceHolder 2"/>
          <p:cNvSpPr>
            <a:spLocks noGrp="1"/>
          </p:cNvSpPr>
          <p:nvPr>
            <p:ph type="subTitle"/>
          </p:nvPr>
        </p:nvSpPr>
        <p:spPr>
          <a:xfrm>
            <a:off x="533160" y="1676160"/>
            <a:ext cx="7924680" cy="5181480"/>
          </a:xfrm>
          <a:prstGeom prst="rect">
            <a:avLst/>
          </a:prstGeom>
          <a:noFill/>
          <a:ln w="0">
            <a:noFill/>
          </a:ln>
        </p:spPr>
        <p:txBody>
          <a:bodyPr lIns="90000" rIns="90000" tIns="46800" bIns="46800" anchor="t">
            <a:noAutofit/>
          </a:bodyPr>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yudando a los miembros del grupo a comprender las distintas etapas y propósitos del duelo y su impacto sobre cada parte de su vida.</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endo experiencias de la presencia sanadora de Dios a través del proceso.  </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Sugiriendo ejercicios que provean una comprensión más profunda de lo que están experimentando.</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oveyendo estrategias para sobrellevar y enfrentar los síntomas del duelo (por ejemplo, qué hacer cuando rompe a llorar en lugares públicos)</a:t>
            </a:r>
            <a:endParaRPr b="0" lang="en-US" sz="2800" spc="-1" strike="noStrike">
              <a:solidFill>
                <a:srgbClr val="f6e8ee"/>
              </a:solidFill>
              <a:latin typeface="Georgia"/>
            </a:endParaRPr>
          </a:p>
          <a:p>
            <a:pPr marL="6858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1371240"/>
            <a:ext cx="6095880" cy="1203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Bases bíblicas para Grupos pequeños</a:t>
            </a:r>
            <a:endParaRPr b="1" lang="en-US" sz="3600" spc="-1" strike="noStrike">
              <a:solidFill>
                <a:srgbClr val="f6e8ee"/>
              </a:solidFill>
              <a:latin typeface="Verdana"/>
            </a:endParaRPr>
          </a:p>
        </p:txBody>
      </p:sp>
      <p:sp>
        <p:nvSpPr>
          <p:cNvPr id="92" name="PlaceHolder 2"/>
          <p:cNvSpPr>
            <a:spLocks noGrp="1"/>
          </p:cNvSpPr>
          <p:nvPr>
            <p:ph/>
          </p:nvPr>
        </p:nvSpPr>
        <p:spPr>
          <a:xfrm>
            <a:off x="1523520" y="2971800"/>
            <a:ext cx="6172200" cy="1905120"/>
          </a:xfrm>
          <a:prstGeom prst="rect">
            <a:avLst/>
          </a:prstGeom>
          <a:noFill/>
          <a:ln w="0">
            <a:noFill/>
          </a:ln>
        </p:spPr>
        <p:txBody>
          <a:bodyPr lIns="90000" rIns="90000" tIns="46800" bIns="4680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grupos pequeños son una herramienta efectiva para relacionarnos en forma efectiva y saludable con la comunidad.</a:t>
            </a:r>
            <a:endParaRPr b="0" lang="en-US" sz="3200" spc="-1" strike="noStrike">
              <a:solidFill>
                <a:srgbClr val="f6e8ee"/>
              </a:solidFill>
              <a:latin typeface="Georgia"/>
            </a:endParaRPr>
          </a:p>
        </p:txBody>
      </p:sp>
      <p:pic>
        <p:nvPicPr>
          <p:cNvPr id="93" name="" descr=""/>
          <p:cNvPicPr/>
          <p:nvPr/>
        </p:nvPicPr>
        <p:blipFill>
          <a:blip r:embed="rId2"/>
          <a:stretch/>
        </p:blipFill>
        <p:spPr>
          <a:xfrm>
            <a:off x="0" y="5389560"/>
            <a:ext cx="91440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590920" y="76320"/>
            <a:ext cx="3814560" cy="6781680"/>
          </a:xfrm>
          <a:prstGeom prst="rect">
            <a:avLst/>
          </a:prstGeom>
          <a:ln w="0">
            <a:noFill/>
          </a:ln>
        </p:spPr>
      </p:pic>
      <p:sp>
        <p:nvSpPr>
          <p:cNvPr id="143" name="PlaceHolder 1"/>
          <p:cNvSpPr>
            <a:spLocks noGrp="1"/>
          </p:cNvSpPr>
          <p:nvPr>
            <p:ph type="title"/>
          </p:nvPr>
        </p:nvSpPr>
        <p:spPr>
          <a:xfrm>
            <a:off x="1752120" y="151920"/>
            <a:ext cx="632484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4" name="PlaceHolder 2"/>
          <p:cNvSpPr>
            <a:spLocks noGrp="1"/>
          </p:cNvSpPr>
          <p:nvPr>
            <p:ph type="subTitle"/>
          </p:nvPr>
        </p:nvSpPr>
        <p:spPr>
          <a:xfrm>
            <a:off x="533160" y="990720"/>
            <a:ext cx="7924680" cy="5867280"/>
          </a:xfrm>
          <a:prstGeom prst="rect">
            <a:avLst/>
          </a:prstGeom>
          <a:noFill/>
          <a:ln w="0">
            <a:noFill/>
          </a:ln>
        </p:spPr>
        <p:txBody>
          <a:bodyPr lIns="90000" rIns="90000" tIns="46800" bIns="46800" anchor="t">
            <a:noAutofit/>
          </a:bodyPr>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n-US" sz="2800" spc="-1" strike="noStrike">
                <a:solidFill>
                  <a:srgbClr val="ffffff"/>
                </a:solidFill>
                <a:latin typeface="Georgia"/>
              </a:rPr>
              <a:t>	</a:t>
            </a:r>
            <a:r>
              <a:rPr b="0" lang="es-ES" sz="2800" spc="-1" strike="noStrike">
                <a:solidFill>
                  <a:srgbClr val="ffffff"/>
                </a:solidFill>
                <a:latin typeface="Georgia"/>
              </a:rPr>
              <a:t>Sugiriendo recursos para encontrar sistemas de apoyo para llenar los huecos que quedan en la vida de una persona,  por la muerte de un ser amado.</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Proveyendo información  acerca de cómo ayudar a los miembros de la familia que tienen que enfrentar el impacto de la muerte.</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7.</a:t>
            </a:r>
            <a:r>
              <a:rPr b="0" lang="es-ES" sz="2800" spc="-1" strike="noStrike">
                <a:solidFill>
                  <a:srgbClr val="ffffff"/>
                </a:solidFill>
                <a:latin typeface="Georgia"/>
              </a:rPr>
              <a:t>	</a:t>
            </a:r>
            <a:r>
              <a:rPr b="0" lang="es-ES" sz="2800" spc="-1" strike="noStrike">
                <a:solidFill>
                  <a:srgbClr val="ffffff"/>
                </a:solidFill>
                <a:latin typeface="Georgia"/>
              </a:rPr>
              <a:t>Ayudando a los miembros a comprender el impacto de pérdidas secundarias (por ejemplo, para una viuda esas pérdidas podrían incluir: ganancias, residencia, cambio de estilo de vida, círculo social, pérdida de rol, amigos etc.) </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8.</a:t>
            </a:r>
            <a:r>
              <a:rPr b="0" lang="es-ES" sz="2800" spc="-1" strike="noStrike">
                <a:solidFill>
                  <a:srgbClr val="ffffff"/>
                </a:solidFill>
                <a:latin typeface="Georgia"/>
              </a:rPr>
              <a:t>	</a:t>
            </a:r>
            <a:r>
              <a:rPr b="0" lang="es-ES" sz="2800" spc="-1" strike="noStrike">
                <a:solidFill>
                  <a:srgbClr val="ffffff"/>
                </a:solidFill>
                <a:latin typeface="Georgia"/>
              </a:rPr>
              <a:t>Dando ejemplos prácticos de como acercarse a Jesús para recibir fuerza, consuelo, y dirección durante este tiempo difícil.</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5410080" y="2514600"/>
            <a:ext cx="3200400" cy="2655720"/>
          </a:xfrm>
          <a:prstGeom prst="rect">
            <a:avLst/>
          </a:prstGeom>
          <a:ln w="0">
            <a:noFill/>
          </a:ln>
        </p:spPr>
      </p:pic>
      <p:sp>
        <p:nvSpPr>
          <p:cNvPr id="146" name="PlaceHolder 1"/>
          <p:cNvSpPr>
            <a:spLocks noGrp="1"/>
          </p:cNvSpPr>
          <p:nvPr>
            <p:ph type="title"/>
          </p:nvPr>
        </p:nvSpPr>
        <p:spPr>
          <a:xfrm>
            <a:off x="1980720" y="533160"/>
            <a:ext cx="6172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 de recuperación del divorcio</a:t>
            </a:r>
            <a:endParaRPr b="1" lang="en-US" sz="3200" spc="-1" strike="noStrike">
              <a:solidFill>
                <a:srgbClr val="f6e8ee"/>
              </a:solidFill>
              <a:latin typeface="Verdana"/>
            </a:endParaRPr>
          </a:p>
        </p:txBody>
      </p:sp>
      <p:sp>
        <p:nvSpPr>
          <p:cNvPr id="147" name="PlaceHolder 2"/>
          <p:cNvSpPr>
            <a:spLocks noGrp="1"/>
          </p:cNvSpPr>
          <p:nvPr>
            <p:ph type="subTitle"/>
          </p:nvPr>
        </p:nvSpPr>
        <p:spPr>
          <a:xfrm>
            <a:off x="380520" y="1371240"/>
            <a:ext cx="4876920" cy="5257800"/>
          </a:xfrm>
          <a:prstGeom prst="rect">
            <a:avLst/>
          </a:prstGeom>
          <a:noFill/>
          <a:ln w="0">
            <a:noFill/>
          </a:ln>
        </p:spPr>
        <p:txBody>
          <a:bodyPr lIns="90000" rIns="90000" tIns="46800" bIns="46800" anchor="t">
            <a:noAutofit/>
          </a:bodyPr>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xpresar su sufrimiento y dolor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Identificar las razones por las cuales se rompió el matrimonio y poder distinguir de que parte fue responsable cada uno de los esposos.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Trabajar con los sentimientos de dolor y enojo hacia su ex esposo y llegar a un punto donde le sea posible perdona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6840"/>
            <a:ext cx="66294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de recuperación del divorcio</a:t>
            </a:r>
            <a:endParaRPr b="1" lang="en-US" sz="3600" spc="-1" strike="noStrike">
              <a:solidFill>
                <a:srgbClr val="f6e8ee"/>
              </a:solidFill>
              <a:latin typeface="Verdana"/>
            </a:endParaRPr>
          </a:p>
        </p:txBody>
      </p:sp>
      <p:sp>
        <p:nvSpPr>
          <p:cNvPr id="149" name="PlaceHolder 2"/>
          <p:cNvSpPr>
            <a:spLocks noGrp="1"/>
          </p:cNvSpPr>
          <p:nvPr>
            <p:ph type="subTitle"/>
          </p:nvPr>
        </p:nvSpPr>
        <p:spPr>
          <a:xfrm>
            <a:off x="533160" y="1599840"/>
            <a:ext cx="7924680" cy="525780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licar verdades a las circunstancias de separación/divorcio. </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dmitir y confesar las cosas que debiera haber hecho difer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render a ayudar a sus hijos a poder estabilizarse y guiarlos en el proceso de reestablecimient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cubrir cómo pueden fortalecer su carácter, caminar con Dios, y reestablecerse del pasado, así si Dios las llama a casarse nuevamente, se encontrarán fortalecidas.</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609120"/>
            <a:ext cx="6248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El grupo pequeño para mujeres cuyos esposos no son creyentes</a:t>
            </a:r>
            <a:endParaRPr b="1" lang="en-US" sz="3200" spc="-1" strike="noStrike">
              <a:solidFill>
                <a:srgbClr val="f6e8ee"/>
              </a:solidFill>
              <a:latin typeface="Verdana"/>
            </a:endParaRPr>
          </a:p>
        </p:txBody>
      </p:sp>
      <p:sp>
        <p:nvSpPr>
          <p:cNvPr id="151" name=""/>
          <p:cNvSpPr/>
          <p:nvPr/>
        </p:nvSpPr>
        <p:spPr>
          <a:xfrm>
            <a:off x="76320" y="1828800"/>
            <a:ext cx="8001000" cy="48488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Encontrando su verdadero valor y dignidad en Jesú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Reconociendo a Jesús como su verdadero esposo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Expresando sus emociones y comentando asuntos cruciale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Descansando en la paz de Dios, no importa cuál sea el resultado.</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5.</a:t>
            </a:r>
            <a:r>
              <a:rPr b="0" lang="es-ES" sz="2400" spc="-1" strike="noStrike">
                <a:solidFill>
                  <a:srgbClr val="ffffff"/>
                </a:solidFill>
                <a:latin typeface="Georgia"/>
              </a:rPr>
              <a:t>	</a:t>
            </a:r>
            <a:r>
              <a:rPr b="0" lang="es-ES" sz="2400" spc="-1" strike="noStrike">
                <a:solidFill>
                  <a:srgbClr val="ffffff"/>
                </a:solidFill>
                <a:latin typeface="Georgia"/>
              </a:rPr>
              <a:t>Pidiendo perdón (si es necesario), disminuyendo así  la culpabilidad de haberse relacionado con un incrédulo, porque esto será una barrera para que haya un progreso en la relación.</a:t>
            </a:r>
            <a:endParaRPr b="0" lang="en-US" sz="2400" spc="-1" strike="noStrike">
              <a:solidFill>
                <a:srgbClr val="f6e8ee"/>
              </a:solidFill>
              <a:latin typeface="Times New Roman"/>
            </a:endParaRPr>
          </a:p>
        </p:txBody>
      </p:sp>
      <p:pic>
        <p:nvPicPr>
          <p:cNvPr id="152" name="" descr=""/>
          <p:cNvPicPr/>
          <p:nvPr/>
        </p:nvPicPr>
        <p:blipFill>
          <a:blip r:embed="rId2"/>
          <a:srcRect l="0" t="0" r="0" b="12505"/>
          <a:stretch/>
        </p:blipFill>
        <p:spPr>
          <a:xfrm>
            <a:off x="7827840" y="510552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80880" y="1219320"/>
            <a:ext cx="8610480" cy="51192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6.</a:t>
            </a:r>
            <a:r>
              <a:rPr b="0" lang="en-US" sz="3000" spc="-1" strike="noStrike">
                <a:solidFill>
                  <a:srgbClr val="ffffff"/>
                </a:solidFill>
                <a:latin typeface="Georgia"/>
              </a:rPr>
              <a:t>	</a:t>
            </a:r>
            <a:r>
              <a:rPr b="0" lang="es-ES" sz="3000" spc="-1" strike="noStrike">
                <a:solidFill>
                  <a:srgbClr val="ffffff"/>
                </a:solidFill>
                <a:latin typeface="Georgia"/>
              </a:rPr>
              <a:t>Reconociendo que su esposo es el padre de sus hijos y respetando su rol como padre.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7.</a:t>
            </a:r>
            <a:r>
              <a:rPr b="0" lang="es-ES" sz="3000" spc="-1" strike="noStrike">
                <a:solidFill>
                  <a:srgbClr val="ffffff"/>
                </a:solidFill>
                <a:latin typeface="Georgia"/>
              </a:rPr>
              <a:t>	</a:t>
            </a:r>
            <a:r>
              <a:rPr b="0" lang="es-ES" sz="3000" spc="-1" strike="noStrike">
                <a:solidFill>
                  <a:srgbClr val="ffffff"/>
                </a:solidFill>
                <a:latin typeface="Georgia"/>
              </a:rPr>
              <a:t>Encontrando gozo aún cuando sus esposos rechacen continuamente las invitaciones de venir a la igles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8.</a:t>
            </a:r>
            <a:r>
              <a:rPr b="0" lang="es-ES" sz="3000" spc="-1" strike="noStrike">
                <a:solidFill>
                  <a:srgbClr val="ffffff"/>
                </a:solidFill>
                <a:latin typeface="Georgia"/>
              </a:rPr>
              <a:t>	</a:t>
            </a:r>
            <a:r>
              <a:rPr b="0" lang="es-ES" sz="3000" spc="-1" strike="noStrike">
                <a:solidFill>
                  <a:srgbClr val="ffffff"/>
                </a:solidFill>
                <a:latin typeface="Georgia"/>
              </a:rPr>
              <a:t>Decidiendo amar a sus esposos en toda circunstanc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9.</a:t>
            </a:r>
            <a:r>
              <a:rPr b="0" lang="es-ES" sz="3000" spc="-1" strike="noStrike">
                <a:solidFill>
                  <a:srgbClr val="ffffff"/>
                </a:solidFill>
                <a:latin typeface="Georgia"/>
              </a:rPr>
              <a:t>	</a:t>
            </a:r>
            <a:r>
              <a:rPr b="0" lang="es-ES" sz="3000" spc="-1" strike="noStrike">
                <a:solidFill>
                  <a:srgbClr val="ffffff"/>
                </a:solidFill>
                <a:latin typeface="Georgia"/>
              </a:rPr>
              <a:t>Siendo animadora más bien que desalentadora</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Times New Roman"/>
            </a:endParaRPr>
          </a:p>
        </p:txBody>
      </p:sp>
      <p:pic>
        <p:nvPicPr>
          <p:cNvPr id="154" name="" descr=""/>
          <p:cNvPicPr/>
          <p:nvPr/>
        </p:nvPicPr>
        <p:blipFill>
          <a:blip r:embed="rId2"/>
          <a:srcRect l="0" t="0" r="0" b="12505"/>
          <a:stretch/>
        </p:blipFill>
        <p:spPr>
          <a:xfrm>
            <a:off x="6858000" y="457200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rcRect l="0" t="0" r="17022" b="0"/>
          <a:stretch/>
        </p:blipFill>
        <p:spPr>
          <a:xfrm>
            <a:off x="5181480" y="2514600"/>
            <a:ext cx="3353040" cy="3030480"/>
          </a:xfrm>
          <a:prstGeom prst="rect">
            <a:avLst/>
          </a:prstGeom>
          <a:ln w="0">
            <a:noFill/>
          </a:ln>
        </p:spPr>
      </p:pic>
      <p:sp>
        <p:nvSpPr>
          <p:cNvPr id="156" name="PlaceHolder 1"/>
          <p:cNvSpPr>
            <a:spLocks noGrp="1"/>
          </p:cNvSpPr>
          <p:nvPr>
            <p:ph type="title"/>
          </p:nvPr>
        </p:nvSpPr>
        <p:spPr>
          <a:xfrm>
            <a:off x="761760" y="1066320"/>
            <a:ext cx="83818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madres</a:t>
            </a:r>
            <a:endParaRPr b="1" lang="en-US" sz="3200" spc="-1" strike="noStrike">
              <a:solidFill>
                <a:srgbClr val="f6e8ee"/>
              </a:solidFill>
              <a:latin typeface="Verdana"/>
            </a:endParaRPr>
          </a:p>
        </p:txBody>
      </p:sp>
      <p:sp>
        <p:nvSpPr>
          <p:cNvPr id="157" name="PlaceHolder 2"/>
          <p:cNvSpPr>
            <a:spLocks noGrp="1"/>
          </p:cNvSpPr>
          <p:nvPr>
            <p:ph type="subTitle"/>
          </p:nvPr>
        </p:nvSpPr>
        <p:spPr>
          <a:xfrm>
            <a:off x="533520" y="1981080"/>
            <a:ext cx="5029200" cy="5181840"/>
          </a:xfrm>
          <a:prstGeom prst="rect">
            <a:avLst/>
          </a:prstGeom>
          <a:noFill/>
          <a:ln w="0">
            <a:noFill/>
          </a:ln>
        </p:spPr>
        <p:txBody>
          <a:bodyPr lIns="90000" rIns="90000" tIns="46800" bIns="46800" anchor="t">
            <a:noAutofit/>
          </a:bodyPr>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a presentación o diálogo en grupo de algún aspecto de la maternidad (guía espiritual, disciplina, cuidado de las necesidades físicas, enseñanza, etc. Las mujeres podrían también leer el mismo libro sobre maternidad y reunirse para comentarlo.) </a:t>
            </a:r>
            <a:endParaRPr b="0" lang="en-US" sz="2400" spc="-1" strike="noStrike">
              <a:solidFill>
                <a:srgbClr val="f6e8ee"/>
              </a:solidFill>
              <a:latin typeface="Georgia"/>
            </a:endParaRPr>
          </a:p>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 momento para que las madres hagan preguntas y compartan experiencias personales. </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62160" y="1752120"/>
            <a:ext cx="4647960" cy="4038840"/>
          </a:xfrm>
          <a:prstGeom prst="rect">
            <a:avLst/>
          </a:prstGeom>
          <a:noFill/>
          <a:ln w="0">
            <a:noFill/>
          </a:ln>
        </p:spPr>
        <p:txBody>
          <a:bodyPr lIns="90000" rIns="90000" tIns="46800" bIns="46800" anchor="t">
            <a:normAutofit fontScale="98000"/>
          </a:bodyPr>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Un momento para orar por sus hijos en forma personal (nombrándolos). Provea algún momento tranquilo para que las madres puedan escribir oraciones privadas en un “diario de oración”. </a:t>
            </a:r>
            <a:endParaRPr b="0" lang="en-US" sz="2400" spc="-1" strike="noStrike">
              <a:solidFill>
                <a:srgbClr val="f6e8ee"/>
              </a:solidFill>
              <a:latin typeface="Georgia"/>
            </a:endParaRPr>
          </a:p>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Un momento para hacer una manualidad juntas o compartir una merienda liviana.</a:t>
            </a: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59" name="" descr=""/>
          <p:cNvPicPr/>
          <p:nvPr/>
        </p:nvPicPr>
        <p:blipFill>
          <a:blip r:embed="rId2"/>
          <a:stretch/>
        </p:blipFill>
        <p:spPr>
          <a:xfrm>
            <a:off x="990720" y="2133720"/>
            <a:ext cx="3039840" cy="353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solas</a:t>
            </a:r>
            <a:endParaRPr b="1" lang="en-US" sz="3200" spc="-1" strike="noStrike">
              <a:solidFill>
                <a:srgbClr val="f6e8ee"/>
              </a:solidFill>
              <a:latin typeface="Verdana"/>
            </a:endParaRPr>
          </a:p>
        </p:txBody>
      </p:sp>
      <p:sp>
        <p:nvSpPr>
          <p:cNvPr id="161" name="PlaceHolder 2"/>
          <p:cNvSpPr>
            <a:spLocks noGrp="1"/>
          </p:cNvSpPr>
          <p:nvPr>
            <p:ph type="subTitle"/>
          </p:nvPr>
        </p:nvSpPr>
        <p:spPr>
          <a:xfrm>
            <a:off x="762120" y="1218960"/>
            <a:ext cx="5333760" cy="563868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y comprender la experiencia de ser solteras. No solamente las dificultades, pero también los beneficios, tales como disponer de más tiempo, flexibilidad, amor no concentrado en una persona sino repartido en muchas relaciones con diferentes personas y generaciones. </a:t>
            </a:r>
            <a:endParaRPr b="0" lang="en-US" sz="2800" spc="-1" strike="noStrike">
              <a:solidFill>
                <a:srgbClr val="f6e8ee"/>
              </a:solidFill>
              <a:latin typeface="Georgia"/>
            </a:endParaRPr>
          </a:p>
          <a:p>
            <a:pPr marL="685800" indent="-685800">
              <a:lnSpc>
                <a:spcPct val="80000"/>
              </a:lnSpc>
              <a:spcBef>
                <a:spcPts val="9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ar que pueden contar con Dios y lo que Dios espera de ellas.</a:t>
            </a:r>
            <a:r>
              <a:rPr b="0" lang="es-ES" sz="3900" spc="-1" strike="noStrike">
                <a:solidFill>
                  <a:srgbClr val="ffffff"/>
                </a:solidFill>
                <a:latin typeface="Georgia"/>
              </a:rPr>
              <a:t> </a:t>
            </a:r>
            <a:endParaRPr b="0" lang="en-US" sz="3900" spc="-1" strike="noStrike">
              <a:solidFill>
                <a:srgbClr val="f6e8ee"/>
              </a:solidFill>
              <a:latin typeface="Georgia"/>
            </a:endParaRPr>
          </a:p>
        </p:txBody>
      </p:sp>
      <p:pic>
        <p:nvPicPr>
          <p:cNvPr id="162" name="" descr=""/>
          <p:cNvPicPr/>
          <p:nvPr/>
        </p:nvPicPr>
        <p:blipFill>
          <a:blip r:embed="rId2"/>
          <a:srcRect l="0" t="0" r="24489" b="20685"/>
          <a:stretch/>
        </p:blipFill>
        <p:spPr>
          <a:xfrm>
            <a:off x="6553080" y="182880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rcRect l="0" t="778" r="14000" b="0"/>
          <a:stretch/>
        </p:blipFill>
        <p:spPr>
          <a:xfrm>
            <a:off x="5257800" y="2057400"/>
            <a:ext cx="3276720" cy="3024360"/>
          </a:xfrm>
          <a:prstGeom prst="rect">
            <a:avLst/>
          </a:prstGeom>
          <a:ln w="0">
            <a:noFill/>
          </a:ln>
        </p:spPr>
      </p:pic>
      <p:sp>
        <p:nvSpPr>
          <p:cNvPr id="164" name="PlaceHolder 1"/>
          <p:cNvSpPr>
            <a:spLocks noGrp="1"/>
          </p:cNvSpPr>
          <p:nvPr>
            <p:ph/>
          </p:nvPr>
        </p:nvSpPr>
        <p:spPr>
          <a:xfrm>
            <a:off x="609480" y="1371600"/>
            <a:ext cx="4267440" cy="4572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     Explorar el tema de lo que significa tener un compañero de por vida en matrimonio: ¿Lo deseo? ¿Debiera casarme? ¿Cuál es la voluntad de Dios para mí? Ayudar a la gente a clarificar sus blancos y entonces proveer apoyo para vivir una vida productiva como soltera, o avanzar en la búsqueda de un compañero.</a:t>
            </a:r>
            <a:endParaRPr b="0" lang="en-US" sz="2400" spc="-1" strike="noStrike">
              <a:solidFill>
                <a:srgbClr val="f6e8ee"/>
              </a:solidFill>
              <a:latin typeface="Georgia"/>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533160"/>
            <a:ext cx="7315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Grupos pequeños de solas</a:t>
            </a:r>
            <a:endParaRPr b="1" lang="en-US" sz="4000" spc="-1" strike="noStrike">
              <a:solidFill>
                <a:srgbClr val="f6e8ee"/>
              </a:solidFill>
              <a:latin typeface="Verdana"/>
            </a:endParaRPr>
          </a:p>
        </p:txBody>
      </p:sp>
      <p:sp>
        <p:nvSpPr>
          <p:cNvPr id="166" name="PlaceHolder 2"/>
          <p:cNvSpPr>
            <a:spLocks noGrp="1"/>
          </p:cNvSpPr>
          <p:nvPr>
            <p:ph type="subTitle"/>
          </p:nvPr>
        </p:nvSpPr>
        <p:spPr>
          <a:xfrm>
            <a:off x="837720" y="838080"/>
            <a:ext cx="4496040" cy="5639040"/>
          </a:xfrm>
          <a:prstGeom prst="rect">
            <a:avLst/>
          </a:prstGeom>
          <a:noFill/>
          <a:ln w="0">
            <a:noFill/>
          </a:ln>
        </p:spPr>
        <p:txBody>
          <a:bodyPr lIns="90000" rIns="90000" tIns="46800" bIns="46800" anchor="t">
            <a:noAutofit/>
          </a:bodyPr>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4</a:t>
            </a:r>
            <a:r>
              <a:rPr b="0" lang="en-US" sz="2900" spc="-1" strike="noStrike">
                <a:solidFill>
                  <a:srgbClr val="ffffff"/>
                </a:solidFill>
                <a:latin typeface="Georgia"/>
              </a:rPr>
              <a:t>	</a:t>
            </a:r>
            <a:r>
              <a:rPr b="0" lang="es-ES" sz="2900" spc="-1" strike="noStrike">
                <a:solidFill>
                  <a:srgbClr val="ffffff"/>
                </a:solidFill>
                <a:latin typeface="Georgia"/>
              </a:rPr>
              <a:t>Encontrar y proveer ayuda en habilidades prácticas como ser, qué hacer cuando se rompe su aut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5.</a:t>
            </a:r>
            <a:r>
              <a:rPr b="0" lang="es-ES" sz="2900" spc="-1" strike="noStrike">
                <a:solidFill>
                  <a:srgbClr val="ffffff"/>
                </a:solidFill>
                <a:latin typeface="Georgia"/>
              </a:rPr>
              <a:t>	</a:t>
            </a:r>
            <a:r>
              <a:rPr b="0" lang="es-ES" sz="2900" spc="-1" strike="noStrike">
                <a:solidFill>
                  <a:srgbClr val="ffffff"/>
                </a:solidFill>
                <a:latin typeface="Georgia"/>
              </a:rPr>
              <a:t>Construir su comprensión de su identidad en Cristo; que tienen valor y pueden tener una vida productiva y completa sin un compañer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	</a:t>
            </a:r>
            <a:endParaRPr b="0" lang="en-US" sz="2900" spc="-1" strike="noStrike">
              <a:solidFill>
                <a:srgbClr val="f6e8ee"/>
              </a:solidFill>
              <a:latin typeface="Georgia"/>
            </a:endParaRPr>
          </a:p>
        </p:txBody>
      </p:sp>
      <p:pic>
        <p:nvPicPr>
          <p:cNvPr id="167" name="" descr=""/>
          <p:cNvPicPr/>
          <p:nvPr/>
        </p:nvPicPr>
        <p:blipFill>
          <a:blip r:embed="rId2"/>
          <a:stretch/>
        </p:blipFill>
        <p:spPr>
          <a:xfrm>
            <a:off x="5334120" y="23623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685440"/>
            <a:ext cx="609588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Bases bíblicas para grupos pequeños</a:t>
            </a:r>
            <a:endParaRPr b="1" lang="en-US" sz="4000" spc="-1" strike="noStrike">
              <a:solidFill>
                <a:srgbClr val="f6e8ee"/>
              </a:solidFill>
              <a:latin typeface="Verdana"/>
            </a:endParaRPr>
          </a:p>
        </p:txBody>
      </p:sp>
      <p:sp>
        <p:nvSpPr>
          <p:cNvPr id="95" name="PlaceHolder 2"/>
          <p:cNvSpPr>
            <a:spLocks noGrp="1"/>
          </p:cNvSpPr>
          <p:nvPr>
            <p:ph/>
          </p:nvPr>
        </p:nvSpPr>
        <p:spPr>
          <a:xfrm>
            <a:off x="228240" y="2133720"/>
            <a:ext cx="8381880" cy="350496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Modelo del Nuevo Testamento en un discipulado basado en grupos—El discipulado, a menudo se piensa que tuvo lugar primariamente sobre una base  de estudios bíblicos de uno-en-uno.  Pero en el Nuevo Testamento, hacer discípulos era un evento de grupo.</a:t>
            </a:r>
            <a:endParaRPr b="0" lang="en-US" sz="2800" spc="-1" strike="noStrike">
              <a:solidFill>
                <a:srgbClr val="f6e8ee"/>
              </a:solidFill>
              <a:latin typeface="Georgia"/>
            </a:endParaRPr>
          </a:p>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ejemplo de los primeros Cristianos—Hechos 2:42-47</a:t>
            </a:r>
            <a:endParaRPr b="0" lang="en-US" sz="2800" spc="-1" strike="noStrike">
              <a:solidFill>
                <a:srgbClr val="f6e8ee"/>
              </a:solidFill>
              <a:latin typeface="Georgia"/>
            </a:endParaRPr>
          </a:p>
        </p:txBody>
      </p:sp>
      <p:pic>
        <p:nvPicPr>
          <p:cNvPr id="96" name="" descr=""/>
          <p:cNvPicPr/>
          <p:nvPr/>
        </p:nvPicPr>
        <p:blipFill>
          <a:blip r:embed="rId2"/>
          <a:stretch/>
        </p:blipFill>
        <p:spPr>
          <a:xfrm>
            <a:off x="2743200" y="5257800"/>
            <a:ext cx="4191120" cy="14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43000" y="3200040"/>
            <a:ext cx="7391520" cy="3048120"/>
          </a:xfrm>
          <a:prstGeom prst="rect">
            <a:avLst/>
          </a:prstGeom>
          <a:noFill/>
          <a:ln w="0">
            <a:noFill/>
          </a:ln>
        </p:spPr>
        <p:txBody>
          <a:bodyPr lIns="90000" rIns="90000" tIns="46800" bIns="46800" anchor="t">
            <a:normAutofit fontScale="94000"/>
          </a:bodyPr>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Ayudarse  y responsabilizarse mutuamente para permanecer vírgenes. </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7.</a:t>
            </a:r>
            <a:r>
              <a:rPr b="0" lang="es-ES" sz="2900" spc="-1" strike="noStrike">
                <a:solidFill>
                  <a:srgbClr val="ffffff"/>
                </a:solidFill>
                <a:latin typeface="Georgia"/>
              </a:rPr>
              <a:t>	</a:t>
            </a:r>
            <a:r>
              <a:rPr b="0" lang="es-ES" sz="2900" spc="-1" strike="noStrike">
                <a:solidFill>
                  <a:srgbClr val="ffffff"/>
                </a:solidFill>
                <a:latin typeface="Georgia"/>
              </a:rPr>
              <a:t>Orar las unas por las otras.</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8.</a:t>
            </a:r>
            <a:r>
              <a:rPr b="0" lang="es-ES" sz="2900" spc="-1" strike="noStrike">
                <a:solidFill>
                  <a:srgbClr val="ffffff"/>
                </a:solidFill>
                <a:latin typeface="Georgia"/>
              </a:rPr>
              <a:t>	</a:t>
            </a:r>
            <a:r>
              <a:rPr b="0" lang="es-ES" sz="2900" spc="-1" strike="noStrike">
                <a:solidFill>
                  <a:srgbClr val="ffffff"/>
                </a:solidFill>
                <a:latin typeface="Georgia"/>
              </a:rPr>
              <a:t>Tomar parte en actividades con otras mujeres como también en actividades mixtas.</a:t>
            </a: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p:txBody>
      </p:sp>
      <p:pic>
        <p:nvPicPr>
          <p:cNvPr id="169" name="" descr=""/>
          <p:cNvPicPr/>
          <p:nvPr/>
        </p:nvPicPr>
        <p:blipFill>
          <a:blip r:embed="rId2"/>
          <a:stretch/>
        </p:blipFill>
        <p:spPr>
          <a:xfrm>
            <a:off x="3200400" y="838080"/>
            <a:ext cx="3232080" cy="2148120"/>
          </a:xfrm>
          <a:prstGeom prst="rect">
            <a:avLst/>
          </a:prstGeom>
          <a:ln w="0">
            <a:noFill/>
          </a:ln>
        </p:spPr>
      </p:pic>
      <p:sp>
        <p:nvSpPr>
          <p:cNvPr id="170" name=""/>
          <p:cNvSpPr/>
          <p:nvPr/>
        </p:nvSpPr>
        <p:spPr>
          <a:xfrm>
            <a:off x="763560" y="3124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6.</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rcRect l="23051" t="0" r="28870" b="12589"/>
          <a:stretch/>
        </p:blipFill>
        <p:spPr>
          <a:xfrm>
            <a:off x="5943600" y="1752480"/>
            <a:ext cx="2120760" cy="4419720"/>
          </a:xfrm>
          <a:prstGeom prst="rect">
            <a:avLst/>
          </a:prstGeom>
          <a:ln w="0">
            <a:noFill/>
          </a:ln>
        </p:spPr>
      </p:pic>
      <p:sp>
        <p:nvSpPr>
          <p:cNvPr id="172" name="PlaceHolder 1"/>
          <p:cNvSpPr>
            <a:spLocks noGrp="1"/>
          </p:cNvSpPr>
          <p:nvPr>
            <p:ph type="title"/>
          </p:nvPr>
        </p:nvSpPr>
        <p:spPr>
          <a:xfrm>
            <a:off x="1676520" y="685800"/>
            <a:ext cx="67053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Grupo pequeño para madres cuyos hijos no están en la Iglesia</a:t>
            </a:r>
            <a:endParaRPr b="1" lang="en-US" sz="2800" spc="-1" strike="noStrike">
              <a:solidFill>
                <a:srgbClr val="f6e8ee"/>
              </a:solidFill>
              <a:latin typeface="Verdana"/>
            </a:endParaRPr>
          </a:p>
        </p:txBody>
      </p:sp>
      <p:sp>
        <p:nvSpPr>
          <p:cNvPr id="173"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4" name=""/>
          <p:cNvSpPr/>
          <p:nvPr/>
        </p:nvSpPr>
        <p:spPr>
          <a:xfrm>
            <a:off x="380880" y="1981080"/>
            <a:ext cx="4876920" cy="3801960"/>
          </a:xfrm>
          <a:prstGeom prst="rect">
            <a:avLst/>
          </a:prstGeom>
          <a:noFill/>
          <a:ln w="0">
            <a:noFill/>
          </a:ln>
        </p:spPr>
        <p:style>
          <a:lnRef idx="0"/>
          <a:fillRef idx="0"/>
          <a:effectRef idx="0"/>
          <a:fontRef idx="minor"/>
        </p:style>
        <p:txBody>
          <a:bodyPr lIns="90000" rIns="90000" tIns="46800" bIns="46800" anchor="t">
            <a:spAutoFit/>
          </a:bodyPr>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ompartir historias, penas y respuestas a oraciones en relación con hijos que no están en la iglesia. </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Realicen un “Torbellino de ideas” juntas. Piensen en distintas formas de alcanzar a los hijos</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733920"/>
            <a:ext cx="8534520" cy="3124080"/>
          </a:xfrm>
          <a:prstGeom prst="rect">
            <a:avLst/>
          </a:prstGeom>
          <a:noFill/>
          <a:ln w="0">
            <a:noFill/>
          </a:ln>
        </p:spPr>
        <p:txBody>
          <a:bodyPr lIns="90000" rIns="90000" tIns="46800" bIns="46800" anchor="t">
            <a:normAutofit/>
          </a:bodyPr>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Orar por los hijos por nombre. Llevar un diario de oración</a:t>
            </a:r>
            <a:endParaRPr b="0" lang="en-US" sz="2400" spc="-1" strike="noStrike">
              <a:solidFill>
                <a:srgbClr val="f6e8ee"/>
              </a:solidFill>
              <a:latin typeface="Georgia"/>
            </a:endParaRPr>
          </a:p>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Si los hijos han dejado la iglesia, traten de analizar que factor en su experiencia de relación con la iglesia pudo haber hecho que ellos reaccionen negativamente.</a:t>
            </a:r>
            <a:endParaRPr b="0" lang="en-US" sz="2400" spc="-1" strike="noStrike">
              <a:solidFill>
                <a:srgbClr val="f6e8ee"/>
              </a:solidFill>
              <a:latin typeface="Georgia"/>
            </a:endParaRPr>
          </a:p>
        </p:txBody>
      </p:sp>
      <p:pic>
        <p:nvPicPr>
          <p:cNvPr id="176" name="" descr=""/>
          <p:cNvPicPr/>
          <p:nvPr/>
        </p:nvPicPr>
        <p:blipFill>
          <a:blip r:embed="rId2"/>
          <a:stretch/>
        </p:blipFill>
        <p:spPr>
          <a:xfrm>
            <a:off x="3048120" y="12193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533160"/>
            <a:ext cx="66294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8f824"/>
                </a:solidFill>
                <a:latin typeface="Verdana"/>
              </a:rPr>
              <a:t>Grupo pequeño para madres cuyos hijos no están en la Iglesia</a:t>
            </a:r>
            <a:endParaRPr b="1" lang="en-US" sz="3000" spc="-1" strike="noStrike">
              <a:solidFill>
                <a:srgbClr val="f6e8ee"/>
              </a:solidFill>
              <a:latin typeface="Verdana"/>
            </a:endParaRPr>
          </a:p>
        </p:txBody>
      </p:sp>
      <p:sp>
        <p:nvSpPr>
          <p:cNvPr id="17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9" name=""/>
          <p:cNvSpPr/>
          <p:nvPr/>
        </p:nvSpPr>
        <p:spPr>
          <a:xfrm>
            <a:off x="609480" y="1752480"/>
            <a:ext cx="6324840" cy="5274000"/>
          </a:xfrm>
          <a:prstGeom prst="rect">
            <a:avLst/>
          </a:prstGeom>
          <a:noFill/>
          <a:ln w="0">
            <a:noFill/>
          </a:ln>
        </p:spPr>
        <p:style>
          <a:lnRef idx="0"/>
          <a:fillRef idx="0"/>
          <a:effectRef idx="0"/>
          <a:fontRef idx="minor"/>
        </p:style>
        <p:txBody>
          <a:bodyPr lIns="90000" rIns="90000" tIns="46800" bIns="46800" anchor="t">
            <a:spAutoFit/>
          </a:bodyPr>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s-ES" sz="2800" spc="-1" strike="noStrike">
                <a:solidFill>
                  <a:srgbClr val="ffffff"/>
                </a:solidFill>
                <a:latin typeface="Georgia"/>
              </a:rPr>
              <a:t> Busque en que forma está actuando Dios en las vidas de sus hijos de modo que puedan agradecerle y cooperar con Dios al ministrar por sus hijos.</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Concentrarse en agradecer a Dios por haberle concedido ese hijo, recordar la bendición que significó para usted y entregárselo nuevamente al Señor.</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Arial"/>
              </a:rPr>
              <a:t> </a:t>
            </a:r>
            <a:endParaRPr b="0" lang="en-US" sz="3200" spc="-1" strike="noStrike">
              <a:solidFill>
                <a:srgbClr val="f6e8ee"/>
              </a:solidFill>
              <a:latin typeface="Times New Roman"/>
            </a:endParaRPr>
          </a:p>
        </p:txBody>
      </p:sp>
      <p:pic>
        <p:nvPicPr>
          <p:cNvPr id="180" name="" descr=""/>
          <p:cNvPicPr/>
          <p:nvPr/>
        </p:nvPicPr>
        <p:blipFill>
          <a:blip r:embed="rId2"/>
          <a:srcRect l="23051" t="0" r="28870" b="12589"/>
          <a:stretch/>
        </p:blipFill>
        <p:spPr>
          <a:xfrm>
            <a:off x="7142040" y="2666880"/>
            <a:ext cx="14623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1371240"/>
            <a:ext cx="3505320" cy="2971800"/>
          </a:xfrm>
          <a:prstGeom prst="rect">
            <a:avLst/>
          </a:prstGeom>
          <a:noFill/>
          <a:ln w="0">
            <a:noFill/>
          </a:ln>
        </p:spPr>
        <p:txBody>
          <a:bodyPr lIns="90000" rIns="90000" tIns="46800" bIns="46800" anchor="t">
            <a:normAutofit fontScale="6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 </a:t>
            </a:r>
            <a:r>
              <a:rPr b="0" i="1" lang="es-ES" sz="2400" spc="-1" strike="noStrike">
                <a:solidFill>
                  <a:srgbClr val="ffffff"/>
                </a:solidFill>
                <a:latin typeface="Georgia"/>
              </a:rPr>
              <a:t>“Y perseveraban en la doctrina de los apóstole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estudio de la Biblia</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 </a:t>
            </a:r>
            <a:r>
              <a:rPr b="0" i="1" lang="es-ES" sz="2400" spc="-1" strike="noStrike">
                <a:solidFill>
                  <a:srgbClr val="ffffff"/>
                </a:solidFill>
                <a:latin typeface="Georgia"/>
              </a:rPr>
              <a:t>“en la comunión unos con otro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compartir la vida de cada un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a:t>
            </a:r>
            <a:endParaRPr b="0" lang="en-US" sz="2400" spc="-1" strike="noStrike">
              <a:solidFill>
                <a:srgbClr val="f6e8ee"/>
              </a:solidFill>
              <a:latin typeface="Georgia"/>
            </a:endParaRPr>
          </a:p>
        </p:txBody>
      </p:sp>
      <p:sp>
        <p:nvSpPr>
          <p:cNvPr id="98" name=""/>
          <p:cNvSpPr/>
          <p:nvPr/>
        </p:nvSpPr>
        <p:spPr>
          <a:xfrm>
            <a:off x="4724280" y="1066680"/>
            <a:ext cx="381024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3.</a:t>
            </a:r>
            <a:r>
              <a:rPr b="0" i="1" lang="es-ES_tradnl" sz="2400" spc="-1" strike="noStrike">
                <a:solidFill>
                  <a:srgbClr val="ffffff"/>
                </a:solidFill>
                <a:latin typeface="Georgia"/>
              </a:rPr>
              <a:t> </a:t>
            </a:r>
            <a:r>
              <a:rPr b="0" i="1" lang="es-ES_tradnl" sz="2400" spc="-1" strike="noStrike">
                <a:solidFill>
                  <a:srgbClr val="f6e8ee"/>
                </a:solidFill>
                <a:latin typeface="Arial"/>
              </a:rPr>
              <a:t>“en el partimiento del pan,”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comer juntos</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omun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4. “y en las oraciones.”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orac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recimiento espiritual continuo</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5. “Y sobrevino temor a toda persona,”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Dios aparece</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adoración, evangelización</a:t>
            </a:r>
            <a:r>
              <a:rPr b="0" lang="es-ES" sz="2400" spc="-1" strike="noStrike">
                <a:solidFill>
                  <a:srgbClr val="f6e8ee"/>
                </a:solidFill>
                <a:latin typeface="Arial"/>
              </a:rPr>
              <a:t> </a:t>
            </a:r>
            <a:endParaRPr b="0" lang="en-US" sz="2400" spc="-1" strike="noStrike">
              <a:solidFill>
                <a:srgbClr val="f6e8ee"/>
              </a:solidFill>
              <a:latin typeface="Times New Roman"/>
            </a:endParaRPr>
          </a:p>
        </p:txBody>
      </p:sp>
      <p:pic>
        <p:nvPicPr>
          <p:cNvPr id="99" name="" descr=""/>
          <p:cNvPicPr/>
          <p:nvPr/>
        </p:nvPicPr>
        <p:blipFill>
          <a:blip r:embed="rId2"/>
          <a:stretch/>
        </p:blipFill>
        <p:spPr>
          <a:xfrm>
            <a:off x="3124080" y="380880"/>
            <a:ext cx="251460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523880"/>
            <a:ext cx="3581280" cy="4724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a:t>
            </a:r>
            <a:r>
              <a:rPr b="0" i="1" lang="en-US" sz="2400" spc="-1" strike="noStrike">
                <a:solidFill>
                  <a:srgbClr val="ffffff"/>
                </a:solidFill>
                <a:latin typeface="Georgia"/>
              </a:rPr>
              <a:t>. </a:t>
            </a:r>
            <a:r>
              <a:rPr b="0" i="1" lang="es-ES" sz="2400" spc="-1" strike="noStrike">
                <a:solidFill>
                  <a:srgbClr val="ffffff"/>
                </a:solidFill>
                <a:latin typeface="Georgia"/>
              </a:rPr>
              <a:t>“. . . y muchas maravillas y señales eran hechas por los apóstole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lagro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r, servir</a:t>
            </a:r>
            <a:endParaRPr b="0" lang="en-US" sz="2400" spc="-1" strike="noStrike">
              <a:solidFill>
                <a:srgbClr val="f6e8ee"/>
              </a:solidFill>
              <a:latin typeface="Georgi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7. “Todos los que habían creído estaban juntos, y tenían en común todas las cosas. . . y lo repartían</a:t>
            </a:r>
            <a:endParaRPr b="0" lang="en-US" sz="2400" spc="-1" strike="noStrike">
              <a:solidFill>
                <a:srgbClr val="f6e8ee"/>
              </a:solidFill>
              <a:latin typeface="Georgia"/>
            </a:endParaRPr>
          </a:p>
        </p:txBody>
      </p:sp>
      <p:sp>
        <p:nvSpPr>
          <p:cNvPr id="101" name=""/>
          <p:cNvSpPr/>
          <p:nvPr/>
        </p:nvSpPr>
        <p:spPr>
          <a:xfrm>
            <a:off x="4343400" y="1143000"/>
            <a:ext cx="4267080" cy="55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a todos según la necesidad de cada u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nisterio inter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Servicio, comunión evangelización</a:t>
            </a:r>
            <a:endParaRPr b="0" lang="en-US" sz="2400" spc="-1" strike="noStrike">
              <a:solidFill>
                <a:srgbClr val="f6e8ee"/>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8. “Y perseverando unánimes cada día en el templo.”  </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reunirse juntos</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adoración, comunión</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371240"/>
            <a:ext cx="3352680" cy="3962520"/>
          </a:xfrm>
          <a:prstGeom prst="rect">
            <a:avLst/>
          </a:prstGeom>
          <a:noFill/>
          <a:ln w="0">
            <a:noFill/>
          </a:ln>
        </p:spPr>
        <p:txBody>
          <a:bodyPr lIns="90000" rIns="90000" tIns="46800" bIns="4680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9.</a:t>
            </a:r>
            <a:r>
              <a:rPr b="0" i="1" lang="en-US" sz="2400" spc="-1" strike="noStrike">
                <a:solidFill>
                  <a:srgbClr val="ffffff"/>
                </a:solidFill>
                <a:latin typeface="Georgia"/>
              </a:rPr>
              <a:t> </a:t>
            </a:r>
            <a:r>
              <a:rPr b="0" i="1" lang="es-ES" sz="2400" spc="-1" strike="noStrike">
                <a:solidFill>
                  <a:srgbClr val="ffffff"/>
                </a:solidFill>
                <a:latin typeface="Georgia"/>
              </a:rPr>
              <a:t>“y partiendo el pan en las casas, comían juntos con alegría y sencillez de corazón, alabando a Dios”</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grupos pequeños del hogar</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 adoración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03" name=""/>
          <p:cNvSpPr/>
          <p:nvPr/>
        </p:nvSpPr>
        <p:spPr>
          <a:xfrm>
            <a:off x="4343400" y="1143000"/>
            <a:ext cx="426708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0.</a:t>
            </a:r>
            <a:r>
              <a:rPr b="0" i="1" lang="en-US" sz="2400" spc="-1" strike="noStrike">
                <a:solidFill>
                  <a:srgbClr val="ffffff"/>
                </a:solidFill>
                <a:latin typeface="Georgia"/>
              </a:rPr>
              <a:t> </a:t>
            </a:r>
            <a:r>
              <a:rPr b="0" i="1" lang="es-ES" sz="2400" spc="-1" strike="noStrike">
                <a:solidFill>
                  <a:srgbClr val="ffffff"/>
                </a:solidFill>
                <a:latin typeface="Georgia"/>
              </a:rPr>
              <a:t>“y teniendo favor con todo el pueblo.”</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presencia en la comunidad con un propósito.</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1. </a:t>
            </a:r>
            <a:r>
              <a:rPr b="0" i="1" lang="es-ES" sz="2400" spc="-1" strike="noStrike">
                <a:solidFill>
                  <a:srgbClr val="ffffff"/>
                </a:solidFill>
                <a:latin typeface="Georgia"/>
              </a:rPr>
              <a:t>“Y el Señor añadía cada día a la iglesia los que habían de ser salvos.”</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la transformación de la vida</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5257800" y="2104920"/>
            <a:ext cx="3475080" cy="2924280"/>
          </a:xfrm>
          <a:prstGeom prst="rect">
            <a:avLst/>
          </a:prstGeom>
          <a:ln w="0">
            <a:noFill/>
          </a:ln>
        </p:spPr>
      </p:pic>
      <p:sp>
        <p:nvSpPr>
          <p:cNvPr id="105" name="PlaceHolder 1"/>
          <p:cNvSpPr>
            <a:spLocks noGrp="1"/>
          </p:cNvSpPr>
          <p:nvPr>
            <p:ph type="title"/>
          </p:nvPr>
        </p:nvSpPr>
        <p:spPr>
          <a:xfrm>
            <a:off x="2361960" y="609120"/>
            <a:ext cx="525780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Los elementos esenciales para el éxito de un Grupo pequeño</a:t>
            </a:r>
            <a:endParaRPr b="1" lang="en-US" sz="3200" spc="-1" strike="noStrike">
              <a:solidFill>
                <a:srgbClr val="f6e8ee"/>
              </a:solidFill>
              <a:latin typeface="Verdana"/>
            </a:endParaRPr>
          </a:p>
        </p:txBody>
      </p:sp>
      <p:sp>
        <p:nvSpPr>
          <p:cNvPr id="106" name="PlaceHolder 2"/>
          <p:cNvSpPr>
            <a:spLocks noGrp="1"/>
          </p:cNvSpPr>
          <p:nvPr>
            <p:ph/>
          </p:nvPr>
        </p:nvSpPr>
        <p:spPr>
          <a:xfrm>
            <a:off x="761760" y="1599840"/>
            <a:ext cx="5181480" cy="4343400"/>
          </a:xfrm>
          <a:prstGeom prst="rect">
            <a:avLst/>
          </a:prstGeom>
          <a:noFill/>
          <a:ln w="0">
            <a:noFill/>
          </a:ln>
        </p:spPr>
        <p:txBody>
          <a:bodyPr lIns="90000" rIns="90000" tIns="46800" bIns="46800" anchor="t">
            <a:norm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G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eorgia"/>
              </a:rPr>
              <a:t>Refrigeri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o de la Biblia y aplicación a la vida práctica</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mutuamente las vidas</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Oración</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esencia en la comunidad con un propósito</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914040"/>
            <a:ext cx="746748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Cuál es el secreto de los grupos pequeños que hace tan efectiva la transformación de vida?</a:t>
            </a:r>
            <a:endParaRPr b="1" lang="en-US" sz="2800" spc="-1" strike="noStrike">
              <a:solidFill>
                <a:srgbClr val="f6e8ee"/>
              </a:solidFill>
              <a:latin typeface="Verdana"/>
            </a:endParaRPr>
          </a:p>
        </p:txBody>
      </p:sp>
      <p:sp>
        <p:nvSpPr>
          <p:cNvPr id="108" name="PlaceHolder 2"/>
          <p:cNvSpPr>
            <a:spLocks noGrp="1"/>
          </p:cNvSpPr>
          <p:nvPr>
            <p:ph type="subTitle"/>
          </p:nvPr>
        </p:nvSpPr>
        <p:spPr>
          <a:xfrm>
            <a:off x="1371600" y="2743200"/>
            <a:ext cx="6781680" cy="1828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a:t>
            </a:r>
            <a:r>
              <a:rPr b="0" lang="es-ES" sz="3200" spc="-1" strike="noStrike">
                <a:solidFill>
                  <a:srgbClr val="ffffff"/>
                </a:solidFill>
                <a:latin typeface="Georgia"/>
              </a:rPr>
              <a:t>El grupo pequeño comparado con la Iglesia</a:t>
            </a:r>
            <a:endParaRPr b="0" lang="en-US" sz="3200" spc="-1" strike="noStrike">
              <a:solidFill>
                <a:srgbClr val="f6e8ee"/>
              </a:solidFill>
              <a:latin typeface="Georgi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B. Necesidades humanas</a:t>
            </a:r>
            <a:r>
              <a:rPr b="0" lang="es-ES" sz="3200" spc="-1" strike="noStrike">
                <a:solidFill>
                  <a:srgbClr val="ffffff"/>
                </a:solidFill>
                <a:latin typeface="Georgia"/>
              </a:rPr>
              <a:t>	</a:t>
            </a:r>
            <a:r>
              <a:rPr b="0" lang="es-ES" sz="3200" spc="-1" strike="noStrike">
                <a:solidFill>
                  <a:srgbClr val="ffffff"/>
                </a:solidFill>
                <a:latin typeface="Georgia"/>
              </a:rPr>
              <a:t>intrínsecas </a:t>
            </a:r>
            <a:endParaRPr b="0" lang="en-US" sz="3200" spc="-1" strike="noStrike">
              <a:solidFill>
                <a:srgbClr val="f6e8ee"/>
              </a:solidFill>
              <a:latin typeface="Georgia"/>
            </a:endParaRPr>
          </a:p>
        </p:txBody>
      </p:sp>
      <p:pic>
        <p:nvPicPr>
          <p:cNvPr id="109" name="" descr=""/>
          <p:cNvPicPr/>
          <p:nvPr/>
        </p:nvPicPr>
        <p:blipFill>
          <a:blip r:embed="rId2"/>
          <a:stretch/>
        </p:blipFill>
        <p:spPr>
          <a:xfrm>
            <a:off x="3276720" y="434340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371600"/>
            <a:ext cx="74674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los grupos pequeños; ¿cómo comenzar?</a:t>
            </a:r>
            <a:endParaRPr b="1" lang="en-US" sz="4000" spc="-1" strike="noStrike">
              <a:solidFill>
                <a:srgbClr val="f6e8ee"/>
              </a:solidFill>
              <a:latin typeface="Verdana"/>
            </a:endParaRPr>
          </a:p>
        </p:txBody>
      </p:sp>
      <p:sp>
        <p:nvSpPr>
          <p:cNvPr id="111" name="PlaceHolder 2"/>
          <p:cNvSpPr>
            <a:spLocks noGrp="1"/>
          </p:cNvSpPr>
          <p:nvPr>
            <p:ph type="subTitle"/>
          </p:nvPr>
        </p:nvSpPr>
        <p:spPr>
          <a:xfrm>
            <a:off x="1294920" y="3809880"/>
            <a:ext cx="4038840" cy="1447920"/>
          </a:xfrm>
          <a:prstGeom prst="rect">
            <a:avLst/>
          </a:prstGeom>
          <a:noFill/>
          <a:ln w="0">
            <a:noFill/>
          </a:ln>
        </p:spPr>
        <p:txBody>
          <a:bodyPr lIns="90000" rIns="90000" tIns="46800" bIns="4680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a:t>
            </a:r>
            <a:r>
              <a:rPr b="0" lang="es-ES" sz="3200" spc="-1" strike="noStrike">
                <a:solidFill>
                  <a:srgbClr val="ffffff"/>
                </a:solidFill>
                <a:latin typeface="Georgia"/>
              </a:rPr>
              <a:t>¡Comience con oración!</a:t>
            </a:r>
            <a:endParaRPr b="0" lang="en-US" sz="3200" spc="-1" strike="noStrike">
              <a:solidFill>
                <a:srgbClr val="f6e8ee"/>
              </a:solidFill>
              <a:latin typeface="Georgia"/>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2. Modelo y tutora</a:t>
            </a:r>
            <a:r>
              <a:rPr b="0" lang="es-ES" sz="2400" spc="-1" strike="noStrike">
                <a:solidFill>
                  <a:srgbClr val="ffffff"/>
                </a:solidFill>
                <a:latin typeface="Georgia"/>
              </a:rPr>
              <a:t> </a:t>
            </a:r>
            <a:endParaRPr b="0" lang="en-US" sz="24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12" name="" descr=""/>
          <p:cNvPicPr/>
          <p:nvPr/>
        </p:nvPicPr>
        <p:blipFill>
          <a:blip r:embed="rId2"/>
          <a:stretch/>
        </p:blipFill>
        <p:spPr>
          <a:xfrm>
            <a:off x="4800600" y="3581280"/>
            <a:ext cx="335268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2:22:50Z</dcterms:created>
  <dc:creator>Roland J. Penner</dc:creator>
  <dc:description/>
  <dc:language>en-US</dc:language>
  <cp:lastModifiedBy>Sede Administrativa</cp:lastModifiedBy>
  <dcterms:modified xsi:type="dcterms:W3CDTF">2005-09-14T14:05:17Z</dcterms:modified>
  <cp:revision>36</cp:revision>
  <dc:subject/>
  <dc:title>Small Group Ministries and Support Groups</dc:title>
</cp:coreProperties>
</file>